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0BF-809A-4E32-952A-B80CF283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9C5-FDF0-4323-8008-E5CC770A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CA3-E0A7-4D9F-BAA6-BF51FC675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962-AA5D-4402-891D-450C005DE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DD68-2E79-4EF1-B50B-DD804463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C73F-F686-4653-8A27-4A26ADFF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D6EE-8087-491F-A434-730D0BAB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AD25-C01E-4A82-BF99-AFD49F68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C7C4-DBA9-4936-93C5-38FDBA35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AE0F-894B-48F0-BF11-597430C6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7314-9449-43BF-928C-14D48E5B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CA7A-B67A-487B-A1B3-DB0CECDD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8949-C4AD-45A2-A600-B383DD68D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382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F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DSN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7524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7524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sponden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412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7220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102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22860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5200" y="2133720"/>
            <a:ext cx="604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22640" y="25509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495680" y="1981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81080" y="25146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7432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57600" y="2743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29718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32004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34120" y="3200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533412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981080" y="34290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657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81080" y="411480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7080" y="23623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059560" y="2590920"/>
            <a:ext cx="66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HDM/UHD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94000" y="2590920"/>
            <a:ext cx="777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 R-P Sess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97640" y="2819520"/>
            <a:ext cx="1660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PP Re-Negotiation + Agent Advertisemen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590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7840" y="3048120"/>
            <a:ext cx="50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Q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82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9400" y="3276720"/>
            <a:ext cx="497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P RR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9240" y="3505320"/>
            <a:ext cx="88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-P Session Expir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8160" y="3733920"/>
            <a:ext cx="1189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andoff Completion Messag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67080" y="3962520"/>
            <a:ext cx="487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P Traffic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04812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49920" y="20574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429000" y="2362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32600" y="2209680"/>
            <a:ext cx="187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41760" y="2475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638680" y="2743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429000" y="259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31160" y="243828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3341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80520" y="2666880"/>
            <a:ext cx="2103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Stop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431880" y="335268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200400" y="23623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27432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4" name=""/>
          <p:cNvCxnSpPr>
            <a:endCxn id="733" idx="3"/>
          </p:cNvCxnSpPr>
          <p:nvPr/>
        </p:nvCxnSpPr>
        <p:spPr>
          <a:xfrm flipH="1" flipV="1">
            <a:off x="2819160" y="2839680"/>
            <a:ext cx="38160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35" name=""/>
          <p:cNvSpPr/>
          <p:nvPr/>
        </p:nvSpPr>
        <p:spPr>
          <a:xfrm>
            <a:off x="3429000" y="35053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3276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80520" y="3124080"/>
            <a:ext cx="2261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200400" y="1295280"/>
            <a:ext cx="22860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9" name=""/>
          <p:cNvCxnSpPr>
            <a:endCxn id="740" idx="3"/>
          </p:cNvCxnSpPr>
          <p:nvPr/>
        </p:nvCxnSpPr>
        <p:spPr>
          <a:xfrm flipH="1" flipV="1">
            <a:off x="2742840" y="1590480"/>
            <a:ext cx="45792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40" name=""/>
          <p:cNvSpPr/>
          <p:nvPr/>
        </p:nvSpPr>
        <p:spPr>
          <a:xfrm>
            <a:off x="1981080" y="144792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42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59400" y="358128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429000" y="4191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508200" y="403848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429000" y="4419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202560" y="4267080"/>
            <a:ext cx="1201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00400" y="3733920"/>
            <a:ext cx="235080" cy="6858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57400" y="380988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"/>
          <p:cNvCxnSpPr>
            <a:endCxn id="748" idx="3"/>
          </p:cNvCxnSpPr>
          <p:nvPr/>
        </p:nvCxnSpPr>
        <p:spPr>
          <a:xfrm flipH="1" flipV="1">
            <a:off x="2971080" y="3906000"/>
            <a:ext cx="229320" cy="565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50" name=""/>
          <p:cNvSpPr/>
          <p:nvPr/>
        </p:nvSpPr>
        <p:spPr>
          <a:xfrm>
            <a:off x="3657600" y="3657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676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nterf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457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1523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9400" y="1371600"/>
            <a:ext cx="337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29000" y="1981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8200" y="1828800"/>
            <a:ext cx="708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144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22096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98200" y="20574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248520" y="3048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5600" y="2895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172200" y="2514600"/>
            <a:ext cx="1676520" cy="380520"/>
            <a:chOff x="6172200" y="2514600"/>
            <a:chExt cx="1676520" cy="380520"/>
          </a:xfrm>
        </p:grpSpPr>
        <p:cxnSp>
          <p:nvCxnSpPr>
            <p:cNvPr id="116" name=""/>
            <p:cNvCxnSpPr>
              <a:stCxn id="117" idx="3"/>
              <a:endCxn id="118" idx="3"/>
            </p:cNvCxnSpPr>
            <p:nvPr/>
          </p:nvCxnSpPr>
          <p:spPr>
            <a:xfrm>
              <a:off x="6248520" y="25905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7" name=""/>
            <p:cNvSpPr/>
            <p:nvPr/>
          </p:nvSpPr>
          <p:spPr>
            <a:xfrm>
              <a:off x="6172200" y="25146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172200" y="26668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477120" y="25905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34290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124080"/>
            <a:ext cx="558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1994040"/>
            <a:ext cx="235080" cy="10476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3200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28640" y="3657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12760" y="3505320"/>
            <a:ext cx="886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98072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9280" y="403848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905120" y="4267080"/>
            <a:ext cx="1675800" cy="381240"/>
            <a:chOff x="1905120" y="4267080"/>
            <a:chExt cx="1675800" cy="381240"/>
          </a:xfrm>
        </p:grpSpPr>
        <p:cxnSp>
          <p:nvCxnSpPr>
            <p:cNvPr id="129" name=""/>
            <p:cNvCxnSpPr>
              <a:stCxn id="130" idx="3"/>
              <a:endCxn id="131" idx="3"/>
            </p:cNvCxnSpPr>
            <p:nvPr/>
          </p:nvCxnSpPr>
          <p:spPr>
            <a:xfrm>
              <a:off x="1980720" y="4343040"/>
              <a:ext cx="180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1905120" y="4267080"/>
              <a:ext cx="75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905120" y="4419720"/>
              <a:ext cx="75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09680" y="434340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sync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52388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6040" y="45720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81080" y="49528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35520" y="4800600"/>
            <a:ext cx="38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4320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8320" y="5029200"/>
            <a:ext cx="781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moveObserv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352680" y="5334120"/>
            <a:ext cx="1676520" cy="380520"/>
            <a:chOff x="3352680" y="5334120"/>
            <a:chExt cx="1676520" cy="380520"/>
          </a:xfrm>
        </p:grpSpPr>
        <p:cxnSp>
          <p:nvCxnSpPr>
            <p:cNvPr id="140" name=""/>
            <p:cNvCxnSpPr>
              <a:stCxn id="141" idx="3"/>
              <a:endCxn id="142" idx="3"/>
            </p:cNvCxnSpPr>
            <p:nvPr/>
          </p:nvCxnSpPr>
          <p:spPr>
            <a:xfrm>
              <a:off x="3429000" y="54100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1" name=""/>
            <p:cNvSpPr/>
            <p:nvPr/>
          </p:nvSpPr>
          <p:spPr>
            <a:xfrm>
              <a:off x="3352680" y="53341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352680" y="54864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57600" y="54100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905120" y="5943600"/>
            <a:ext cx="1675800" cy="380520"/>
            <a:chOff x="1905120" y="5943600"/>
            <a:chExt cx="1675800" cy="380520"/>
          </a:xfrm>
        </p:grpSpPr>
        <p:cxnSp>
          <p:nvCxnSpPr>
            <p:cNvPr id="145" name=""/>
            <p:cNvCxnSpPr>
              <a:stCxn id="146" idx="3"/>
              <a:endCxn id="147" idx="3"/>
            </p:cNvCxnSpPr>
            <p:nvPr/>
          </p:nvCxnSpPr>
          <p:spPr>
            <a:xfrm>
              <a:off x="1980720" y="601956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6" name=""/>
            <p:cNvSpPr/>
            <p:nvPr/>
          </p:nvSpPr>
          <p:spPr>
            <a:xfrm>
              <a:off x="1905120" y="594360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05120" y="609588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09680" y="601956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AllSubInterfaces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352680" y="5638680"/>
            <a:ext cx="1676520" cy="381240"/>
            <a:chOff x="3352680" y="5638680"/>
            <a:chExt cx="1676520" cy="381240"/>
          </a:xfrm>
        </p:grpSpPr>
        <p:cxnSp>
          <p:nvCxnSpPr>
            <p:cNvPr id="150" name=""/>
            <p:cNvCxnSpPr>
              <a:stCxn id="151" idx="3"/>
              <a:endCxn id="152" idx="3"/>
            </p:cNvCxnSpPr>
            <p:nvPr/>
          </p:nvCxnSpPr>
          <p:spPr>
            <a:xfrm>
              <a:off x="3429000" y="57146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1" name=""/>
            <p:cNvSpPr/>
            <p:nvPr/>
          </p:nvSpPr>
          <p:spPr>
            <a:xfrm>
              <a:off x="3352680" y="56386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52680" y="57913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57600" y="57150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648320" y="533520"/>
            <a:ext cx="0" cy="60195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67080" y="1066680"/>
            <a:ext cx="0" cy="5486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74284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15080" y="3733920"/>
            <a:ext cx="17658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4724280"/>
            <a:ext cx="235080" cy="12765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21337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9880" y="7621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152388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4191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05320" y="5029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23623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5867280"/>
            <a:ext cx="152640" cy="152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stCxn id="161" idx="2"/>
            <a:endCxn id="168" idx="0"/>
          </p:cNvCxnSpPr>
          <p:nvPr/>
        </p:nvCxnSpPr>
        <p:spPr>
          <a:xfrm>
            <a:off x="3885840" y="1752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70" idx="2"/>
            <a:endCxn id="171" idx="0"/>
          </p:cNvCxnSpPr>
          <p:nvPr/>
        </p:nvCxnSpPr>
        <p:spPr>
          <a:xfrm>
            <a:off x="3885840" y="297180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73" idx="2"/>
            <a:endCxn id="163" idx="0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66" idx="0"/>
          </p:cNvCxnSpPr>
          <p:nvPr/>
        </p:nvCxnSpPr>
        <p:spPr>
          <a:xfrm>
            <a:off x="3885840" y="5638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77" idx="3"/>
            <a:endCxn id="165" idx="1"/>
          </p:cNvCxnSpPr>
          <p:nvPr/>
        </p:nvCxnSpPr>
        <p:spPr>
          <a:xfrm>
            <a:off x="502884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79" idx="0"/>
            <a:endCxn id="165" idx="2"/>
          </p:cNvCxnSpPr>
          <p:nvPr/>
        </p:nvCxnSpPr>
        <p:spPr>
          <a:xfrm flipV="1">
            <a:off x="5714640" y="25905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81" idx="0"/>
            <a:endCxn id="161" idx="3"/>
          </p:cNvCxnSpPr>
          <p:nvPr/>
        </p:nvCxnSpPr>
        <p:spPr>
          <a:xfrm flipV="1" rot="16200000">
            <a:off x="4857480" y="1046880"/>
            <a:ext cx="26712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stCxn id="183" idx="2"/>
            <a:endCxn id="164" idx="3"/>
          </p:cNvCxnSpPr>
          <p:nvPr/>
        </p:nvCxnSpPr>
        <p:spPr>
          <a:xfrm rot="5400000">
            <a:off x="4742640" y="3638520"/>
            <a:ext cx="1029600" cy="198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85" idx="2"/>
            <a:endCxn id="164" idx="1"/>
          </p:cNvCxnSpPr>
          <p:nvPr/>
        </p:nvCxnSpPr>
        <p:spPr>
          <a:xfrm flipH="1" rot="16200000">
            <a:off x="2419200" y="4057200"/>
            <a:ext cx="7246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/>
          <p:nvPr/>
        </p:nvCxnSpPr>
        <p:spPr>
          <a:xfrm>
            <a:off x="3885840" y="1219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"/>
          <p:cNvCxnSpPr>
            <a:endCxn id="188" idx="0"/>
          </p:cNvCxnSpPr>
          <p:nvPr/>
        </p:nvCxnSpPr>
        <p:spPr>
          <a:xfrm>
            <a:off x="3885840" y="91404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" name=""/>
          <p:cNvSpPr/>
          <p:nvPr/>
        </p:nvSpPr>
        <p:spPr>
          <a:xfrm>
            <a:off x="3657600" y="1066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68" idx="2"/>
            <a:endCxn id="162" idx="0"/>
          </p:cNvCxnSpPr>
          <p:nvPr/>
        </p:nvCxnSpPr>
        <p:spPr>
          <a:xfrm>
            <a:off x="3885840" y="213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>
            <a:off x="3657600" y="2743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70" idx="0"/>
            <a:endCxn id="162" idx="2"/>
          </p:cNvCxnSpPr>
          <p:nvPr/>
        </p:nvCxnSpPr>
        <p:spPr>
          <a:xfrm flipV="1">
            <a:off x="3885840" y="2590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54864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79" idx="2"/>
            <a:endCxn id="171" idx="3"/>
          </p:cNvCxnSpPr>
          <p:nvPr/>
        </p:nvCxnSpPr>
        <p:spPr>
          <a:xfrm rot="5400000">
            <a:off x="4818960" y="257148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3" name=""/>
          <p:cNvSpPr/>
          <p:nvPr/>
        </p:nvSpPr>
        <p:spPr>
          <a:xfrm>
            <a:off x="6019920" y="3886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"/>
          <p:cNvCxnSpPr>
            <a:stCxn id="165" idx="3"/>
            <a:endCxn id="183" idx="0"/>
          </p:cNvCxnSpPr>
          <p:nvPr/>
        </p:nvCxnSpPr>
        <p:spPr>
          <a:xfrm>
            <a:off x="6095880" y="2476440"/>
            <a:ext cx="1533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" name=""/>
          <p:cNvSpPr/>
          <p:nvPr/>
        </p:nvSpPr>
        <p:spPr>
          <a:xfrm>
            <a:off x="1828800" y="4191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"/>
          <p:cNvCxnSpPr>
            <a:stCxn id="194" idx="1"/>
            <a:endCxn id="185" idx="0"/>
          </p:cNvCxnSpPr>
          <p:nvPr/>
        </p:nvCxnSpPr>
        <p:spPr>
          <a:xfrm flipV="1" rot="10800000">
            <a:off x="2056680" y="2400120"/>
            <a:ext cx="1448640" cy="1791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" name=""/>
          <p:cNvCxnSpPr>
            <a:stCxn id="196" idx="1"/>
            <a:endCxn id="185" idx="0"/>
          </p:cNvCxnSpPr>
          <p:nvPr/>
        </p:nvCxnSpPr>
        <p:spPr>
          <a:xfrm flipV="1" rot="10800000">
            <a:off x="2056680" y="3542400"/>
            <a:ext cx="1448640" cy="648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" name=""/>
          <p:cNvCxnSpPr>
            <a:stCxn id="198" idx="1"/>
            <a:endCxn id="199" idx="0"/>
          </p:cNvCxnSpPr>
          <p:nvPr/>
        </p:nvCxnSpPr>
        <p:spPr>
          <a:xfrm flipV="1" rot="10800000">
            <a:off x="2742480" y="25524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251460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endCxn id="199" idx="0"/>
          </p:cNvCxnSpPr>
          <p:nvPr/>
        </p:nvCxnSpPr>
        <p:spPr>
          <a:xfrm flipV="1" rot="10800000">
            <a:off x="2742480" y="3428640"/>
            <a:ext cx="762840" cy="381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>
            <a:stCxn id="173" idx="0"/>
            <a:endCxn id="17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3657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"/>
          <p:cNvCxnSpPr>
            <a:stCxn id="202" idx="0"/>
            <a:endCxn id="163" idx="2"/>
          </p:cNvCxnSpPr>
          <p:nvPr/>
        </p:nvCxnSpPr>
        <p:spPr>
          <a:xfrm flipV="1">
            <a:off x="3885840" y="44190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365760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75" idx="0"/>
            <a:endCxn id="164" idx="2"/>
          </p:cNvCxnSpPr>
          <p:nvPr/>
        </p:nvCxnSpPr>
        <p:spPr>
          <a:xfrm flipV="1">
            <a:off x="3885840" y="5257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5" name=""/>
          <p:cNvCxnSpPr>
            <a:stCxn id="202" idx="2"/>
            <a:endCxn id="164" idx="0"/>
          </p:cNvCxnSpPr>
          <p:nvPr/>
        </p:nvCxnSpPr>
        <p:spPr>
          <a:xfrm>
            <a:off x="3885840" y="4800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207" idx="1"/>
            <a:endCxn id="208" idx="2"/>
          </p:cNvCxnSpPr>
          <p:nvPr/>
        </p:nvCxnSpPr>
        <p:spPr>
          <a:xfrm rot="10800000">
            <a:off x="3351960" y="3199680"/>
            <a:ext cx="15336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320040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199" idx="2"/>
            <a:endCxn id="163" idx="1"/>
          </p:cNvCxnSpPr>
          <p:nvPr/>
        </p:nvCxnSpPr>
        <p:spPr>
          <a:xfrm flipH="1" rot="16200000">
            <a:off x="2990160" y="3790080"/>
            <a:ext cx="2671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"/>
          <p:cNvCxnSpPr>
            <a:stCxn id="208" idx="3"/>
          </p:cNvCxnSpPr>
          <p:nvPr/>
        </p:nvCxnSpPr>
        <p:spPr>
          <a:xfrm>
            <a:off x="3504960" y="3086280"/>
            <a:ext cx="22932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4572000" y="2362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"/>
          <p:cNvCxnSpPr>
            <a:stCxn id="177" idx="1"/>
            <a:endCxn id="162" idx="3"/>
          </p:cNvCxnSpPr>
          <p:nvPr/>
        </p:nvCxnSpPr>
        <p:spPr>
          <a:xfrm flipH="1">
            <a:off x="4266360" y="24760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5486400" y="1905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165" idx="0"/>
            <a:endCxn id="181" idx="2"/>
          </p:cNvCxnSpPr>
          <p:nvPr/>
        </p:nvCxnSpPr>
        <p:spPr>
          <a:xfrm flipV="1">
            <a:off x="5714640" y="213300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13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sp>
          <p:nvSpPr>
            <p:cNvPr id="171" name=""/>
            <p:cNvSpPr/>
            <p:nvPr/>
          </p:nvSpPr>
          <p:spPr>
            <a:xfrm>
              <a:off x="3505320" y="3352680"/>
              <a:ext cx="761760" cy="228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ink U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666880" y="3505320"/>
            <a:ext cx="152640" cy="75960"/>
            <a:chOff x="2666880" y="3505320"/>
            <a:chExt cx="152640" cy="75960"/>
          </a:xfrm>
        </p:grpSpPr>
        <p:sp>
          <p:nvSpPr>
            <p:cNvPr id="215" name=""/>
            <p:cNvSpPr/>
            <p:nvPr/>
          </p:nvSpPr>
          <p:spPr>
            <a:xfrm>
              <a:off x="2666880" y="3505320"/>
              <a:ext cx="15264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666880" y="3543120"/>
              <a:ext cx="152640" cy="3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2840" y="3505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505320" y="2362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5146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5562720" y="3200040"/>
            <a:ext cx="228600" cy="228960"/>
            <a:chOff x="5562720" y="3200040"/>
            <a:chExt cx="228600" cy="228960"/>
          </a:xfrm>
        </p:grpSpPr>
        <p:sp>
          <p:nvSpPr>
            <p:cNvPr id="220" name=""/>
            <p:cNvSpPr/>
            <p:nvPr/>
          </p:nvSpPr>
          <p:spPr>
            <a:xfrm rot="16200000">
              <a:off x="5533920" y="322848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562720" y="3314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77200" y="320040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62720" y="32767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3581280" y="2438280"/>
            <a:ext cx="5791320" cy="32004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600200"/>
            <a:ext cx="3352680" cy="40384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248160" y="3200400"/>
            <a:ext cx="228960" cy="228600"/>
            <a:chOff x="6248160" y="3200400"/>
            <a:chExt cx="228960" cy="228600"/>
          </a:xfrm>
        </p:grpSpPr>
        <p:sp>
          <p:nvSpPr>
            <p:cNvPr id="227" name=""/>
            <p:cNvSpPr/>
            <p:nvPr/>
          </p:nvSpPr>
          <p:spPr>
            <a:xfrm>
              <a:off x="6248520" y="32004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62280" y="3200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305400" y="325764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324120" y="320040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&lt;Interfa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NifIfNotif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" y="2362320"/>
            <a:ext cx="7621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Progress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228600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2438280"/>
            <a:ext cx="1371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New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Run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Network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SendIoctlMessag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50532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2280" y="36576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47242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Null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43000" y="48769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18288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syncDaemonCanc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124080"/>
            <a:ext cx="1828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3920" y="5181480"/>
            <a:ext cx="11430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ConfigurationI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33920" y="5334120"/>
            <a:ext cx="11430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5181480"/>
            <a:ext cx="13716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5334120"/>
            <a:ext cx="13716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2666880"/>
            <a:ext cx="1218960" cy="152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2819520"/>
            <a:ext cx="1218960" cy="3808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ProgressNotificat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Contro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AsyncDelet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c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8620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327672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syncConnec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43800" y="3429000"/>
            <a:ext cx="12193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reateSessio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85800"/>
            <a:ext cx="91440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Session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553080" y="838080"/>
            <a:ext cx="91440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251460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066680" y="3581280"/>
            <a:ext cx="152640" cy="152280"/>
            <a:chOff x="1066680" y="3581280"/>
            <a:chExt cx="152640" cy="152280"/>
          </a:xfrm>
        </p:grpSpPr>
        <p:sp>
          <p:nvSpPr>
            <p:cNvPr id="255" name=""/>
            <p:cNvSpPr/>
            <p:nvPr/>
          </p:nvSpPr>
          <p:spPr>
            <a:xfrm rot="5400000">
              <a:off x="1104840" y="36190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 rot="5400000">
              <a:off x="1028520" y="36187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9051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86800" y="3276720"/>
            <a:ext cx="745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7" idx="3"/>
            <a:endCxn id="237" idx="0"/>
          </p:cNvCxnSpPr>
          <p:nvPr/>
        </p:nvCxnSpPr>
        <p:spPr>
          <a:xfrm rot="5400000">
            <a:off x="1352160" y="4095720"/>
            <a:ext cx="991080" cy="267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61" name=""/>
          <p:cNvGrpSpPr/>
          <p:nvPr/>
        </p:nvGrpSpPr>
        <p:grpSpPr>
          <a:xfrm>
            <a:off x="990720" y="2133360"/>
            <a:ext cx="228600" cy="228960"/>
            <a:chOff x="990720" y="2133360"/>
            <a:chExt cx="228600" cy="228960"/>
          </a:xfrm>
        </p:grpSpPr>
        <p:sp>
          <p:nvSpPr>
            <p:cNvPr id="262" name=""/>
            <p:cNvSpPr/>
            <p:nvPr/>
          </p:nvSpPr>
          <p:spPr>
            <a:xfrm rot="16200000">
              <a:off x="961920" y="216180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0720" y="2248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05200" y="21337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990720" y="22100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"/>
          <p:cNvGrpSpPr/>
          <p:nvPr/>
        </p:nvGrpSpPr>
        <p:grpSpPr>
          <a:xfrm>
            <a:off x="1447560" y="3352320"/>
            <a:ext cx="228600" cy="228960"/>
            <a:chOff x="1447560" y="3352320"/>
            <a:chExt cx="228600" cy="228960"/>
          </a:xfrm>
        </p:grpSpPr>
        <p:sp>
          <p:nvSpPr>
            <p:cNvPr id="267" name=""/>
            <p:cNvSpPr/>
            <p:nvPr/>
          </p:nvSpPr>
          <p:spPr>
            <a:xfrm rot="5400000">
              <a:off x="1476000" y="33811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1523880" y="3466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0800000">
              <a:off x="1447560" y="33523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0800000">
              <a:off x="1599840" y="34286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1" name=""/>
          <p:cNvCxnSpPr>
            <a:stCxn id="259" idx="3"/>
            <a:endCxn id="241" idx="1"/>
          </p:cNvCxnSpPr>
          <p:nvPr/>
        </p:nvCxnSpPr>
        <p:spPr>
          <a:xfrm flipH="1" rot="16200000">
            <a:off x="2399400" y="3924000"/>
            <a:ext cx="152460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70" idx="3"/>
            <a:endCxn id="255" idx="0"/>
          </p:cNvCxnSpPr>
          <p:nvPr/>
        </p:nvCxnSpPr>
        <p:spPr>
          <a:xfrm flipV="1" rot="10800000">
            <a:off x="1218600" y="34660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53" idx="3"/>
            <a:endCxn id="235" idx="0"/>
          </p:cNvCxnSpPr>
          <p:nvPr/>
        </p:nvCxnSpPr>
        <p:spPr>
          <a:xfrm flipV="1" rot="10800000">
            <a:off x="608760" y="2666520"/>
            <a:ext cx="10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65" idx="3"/>
            <a:endCxn id="233" idx="1"/>
          </p:cNvCxnSpPr>
          <p:nvPr/>
        </p:nvCxnSpPr>
        <p:spPr>
          <a:xfrm>
            <a:off x="1066680" y="2247840"/>
            <a:ext cx="610560" cy="11520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76" idx="3"/>
            <a:endCxn id="243" idx="1"/>
          </p:cNvCxnSpPr>
          <p:nvPr/>
        </p:nvCxnSpPr>
        <p:spPr>
          <a:xfrm>
            <a:off x="5028840" y="5257440"/>
            <a:ext cx="305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 rot="16200000">
            <a:off x="4876560" y="518148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4343400"/>
            <a:ext cx="198108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162920" y="4495680"/>
            <a:ext cx="19810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onfigur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Ioct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Cancel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Deregister(in cause, out acti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gressNotificationout progress inf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Cancel(in operation mask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Down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+LinkLayerUp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933960" y="4952520"/>
            <a:ext cx="228600" cy="228960"/>
            <a:chOff x="6933960" y="4952520"/>
            <a:chExt cx="228600" cy="228960"/>
          </a:xfrm>
        </p:grpSpPr>
        <p:sp>
          <p:nvSpPr>
            <p:cNvPr id="280" name=""/>
            <p:cNvSpPr/>
            <p:nvPr/>
          </p:nvSpPr>
          <p:spPr>
            <a:xfrm rot="5400000">
              <a:off x="6962400" y="4981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010280" y="5066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6933960" y="495252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0800000">
              <a:off x="7086240" y="502884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"/>
          <p:cNvCxnSpPr>
            <a:stCxn id="283" idx="3"/>
            <a:endCxn id="243" idx="3"/>
          </p:cNvCxnSpPr>
          <p:nvPr/>
        </p:nvCxnSpPr>
        <p:spPr>
          <a:xfrm flipV="1" rot="10800000">
            <a:off x="6705000" y="5066280"/>
            <a:ext cx="381600" cy="19116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85" name=""/>
          <p:cNvGrpSpPr/>
          <p:nvPr/>
        </p:nvGrpSpPr>
        <p:grpSpPr>
          <a:xfrm>
            <a:off x="6933960" y="4419360"/>
            <a:ext cx="228600" cy="228960"/>
            <a:chOff x="6933960" y="4419360"/>
            <a:chExt cx="228600" cy="228960"/>
          </a:xfrm>
        </p:grpSpPr>
        <p:sp>
          <p:nvSpPr>
            <p:cNvPr id="286" name=""/>
            <p:cNvSpPr/>
            <p:nvPr/>
          </p:nvSpPr>
          <p:spPr>
            <a:xfrm rot="5400000">
              <a:off x="6962400" y="444816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010280" y="45334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0800000">
              <a:off x="6933960" y="44193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0800000">
              <a:off x="7086240" y="449568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"/>
          <p:cNvCxnSpPr>
            <a:stCxn id="289" idx="3"/>
            <a:endCxn id="246" idx="2"/>
          </p:cNvCxnSpPr>
          <p:nvPr/>
        </p:nvCxnSpPr>
        <p:spPr>
          <a:xfrm rot="10800000">
            <a:off x="6628680" y="3199680"/>
            <a:ext cx="45792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291" name=""/>
          <p:cNvGrpSpPr/>
          <p:nvPr/>
        </p:nvGrpSpPr>
        <p:grpSpPr>
          <a:xfrm>
            <a:off x="4419360" y="3505320"/>
            <a:ext cx="228960" cy="228600"/>
            <a:chOff x="4419360" y="3505320"/>
            <a:chExt cx="228960" cy="228600"/>
          </a:xfrm>
        </p:grpSpPr>
        <p:sp>
          <p:nvSpPr>
            <p:cNvPr id="292" name=""/>
            <p:cNvSpPr/>
            <p:nvPr/>
          </p:nvSpPr>
          <p:spPr>
            <a:xfrm>
              <a:off x="4419720" y="3505320"/>
              <a:ext cx="228600" cy="1713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33480" y="35053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5400000">
              <a:off x="4476600" y="3562560"/>
              <a:ext cx="1141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5400000">
              <a:off x="4495320" y="3505320"/>
              <a:ext cx="76320" cy="7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562720" y="5029200"/>
            <a:ext cx="152280" cy="151560"/>
            <a:chOff x="5562720" y="5029200"/>
            <a:chExt cx="152280" cy="151560"/>
          </a:xfrm>
        </p:grpSpPr>
        <p:sp>
          <p:nvSpPr>
            <p:cNvPr id="297" name=""/>
            <p:cNvSpPr/>
            <p:nvPr/>
          </p:nvSpPr>
          <p:spPr>
            <a:xfrm>
              <a:off x="556272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556272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6172200" y="5029200"/>
            <a:ext cx="152280" cy="151560"/>
            <a:chOff x="6172200" y="5029200"/>
            <a:chExt cx="152280" cy="151560"/>
          </a:xfrm>
        </p:grpSpPr>
        <p:sp>
          <p:nvSpPr>
            <p:cNvPr id="300" name=""/>
            <p:cNvSpPr/>
            <p:nvPr/>
          </p:nvSpPr>
          <p:spPr>
            <a:xfrm>
              <a:off x="6172200" y="502920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172200" y="5104440"/>
              <a:ext cx="152280" cy="75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02" name=""/>
          <p:cNvCxnSpPr>
            <a:stCxn id="295" idx="3"/>
            <a:endCxn id="297" idx="0"/>
          </p:cNvCxnSpPr>
          <p:nvPr/>
        </p:nvCxnSpPr>
        <p:spPr>
          <a:xfrm flipH="1" rot="16200000">
            <a:off x="4361400" y="3752640"/>
            <a:ext cx="1448640" cy="110556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" name=""/>
          <p:cNvCxnSpPr>
            <a:stCxn id="230" idx="3"/>
            <a:endCxn id="300" idx="0"/>
          </p:cNvCxnSpPr>
          <p:nvPr/>
        </p:nvCxnSpPr>
        <p:spPr>
          <a:xfrm rot="5400000">
            <a:off x="5428440" y="4095720"/>
            <a:ext cx="1753200" cy="11484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4" name=""/>
          <p:cNvSpPr/>
          <p:nvPr/>
        </p:nvSpPr>
        <p:spPr>
          <a:xfrm>
            <a:off x="8077320" y="3581280"/>
            <a:ext cx="152280" cy="1526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"/>
          <p:cNvCxnSpPr>
            <a:stCxn id="304" idx="3"/>
            <a:endCxn id="277" idx="0"/>
          </p:cNvCxnSpPr>
          <p:nvPr/>
        </p:nvCxnSpPr>
        <p:spPr>
          <a:xfrm flipV="1" rot="10800000">
            <a:off x="8152560" y="3733560"/>
            <a:ext cx="1080" cy="61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69343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"/>
          <p:cNvCxnSpPr>
            <a:stCxn id="306" idx="3"/>
            <a:endCxn id="249" idx="0"/>
          </p:cNvCxnSpPr>
          <p:nvPr/>
        </p:nvCxnSpPr>
        <p:spPr>
          <a:xfrm flipH="1" rot="16200000">
            <a:off x="6513840" y="1638000"/>
            <a:ext cx="2134440" cy="1143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8" name=""/>
          <p:cNvSpPr/>
          <p:nvPr/>
        </p:nvSpPr>
        <p:spPr>
          <a:xfrm>
            <a:off x="396252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267080" y="990720"/>
            <a:ext cx="15264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9907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"/>
          <p:cNvCxnSpPr>
            <a:stCxn id="308" idx="3"/>
            <a:endCxn id="233" idx="0"/>
          </p:cNvCxnSpPr>
          <p:nvPr/>
        </p:nvCxnSpPr>
        <p:spPr>
          <a:xfrm rot="5400000">
            <a:off x="2628360" y="876240"/>
            <a:ext cx="1143720" cy="16768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" name=""/>
          <p:cNvCxnSpPr>
            <a:stCxn id="309" idx="3"/>
            <a:endCxn id="239" idx="0"/>
          </p:cNvCxnSpPr>
          <p:nvPr/>
        </p:nvCxnSpPr>
        <p:spPr>
          <a:xfrm flipH="1" rot="16200000">
            <a:off x="3580560" y="1904760"/>
            <a:ext cx="1829520" cy="30564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" name=""/>
          <p:cNvCxnSpPr>
            <a:stCxn id="310" idx="3"/>
            <a:endCxn id="245" idx="0"/>
          </p:cNvCxnSpPr>
          <p:nvPr/>
        </p:nvCxnSpPr>
        <p:spPr>
          <a:xfrm flipH="1" rot="16200000">
            <a:off x="4875840" y="914040"/>
            <a:ext cx="1524600" cy="1981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992520" y="1981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447920" y="2438280"/>
            <a:ext cx="24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44800" y="37339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3734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269240" y="35053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92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945400" y="4952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9804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631200" y="32004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936120" y="42670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631200" y="502920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6120" y="510552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223" idx="3"/>
            <a:endCxn id="327" idx="0"/>
          </p:cNvCxnSpPr>
          <p:nvPr/>
        </p:nvCxnSpPr>
        <p:spPr>
          <a:xfrm flipV="1">
            <a:off x="5638320" y="2971080"/>
            <a:ext cx="229320" cy="343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328" name=""/>
          <p:cNvGrpSpPr/>
          <p:nvPr/>
        </p:nvGrpSpPr>
        <p:grpSpPr>
          <a:xfrm>
            <a:off x="5867280" y="2895480"/>
            <a:ext cx="152640" cy="152280"/>
            <a:chOff x="5867280" y="2895480"/>
            <a:chExt cx="152640" cy="152280"/>
          </a:xfrm>
        </p:grpSpPr>
        <p:sp>
          <p:nvSpPr>
            <p:cNvPr id="329" name=""/>
            <p:cNvSpPr/>
            <p:nvPr/>
          </p:nvSpPr>
          <p:spPr>
            <a:xfrm rot="5400000">
              <a:off x="5905440" y="293328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 rot="5400000">
              <a:off x="5829120" y="2932920"/>
              <a:ext cx="152280" cy="763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5716800" y="26668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564520" y="3352680"/>
            <a:ext cx="237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29200" y="3352680"/>
            <a:ext cx="15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352680" y="380880"/>
            <a:ext cx="45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286000" y="-3808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200400" y="-3808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095880" y="-3808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5909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5780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47712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90920" y="152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22040" y="0"/>
            <a:ext cx="835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Network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676520" y="228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733920" y="304920"/>
            <a:ext cx="1675800" cy="380520"/>
            <a:chOff x="3733920" y="304920"/>
            <a:chExt cx="1675800" cy="380520"/>
          </a:xfrm>
        </p:grpSpPr>
        <p:cxnSp>
          <p:nvCxnSpPr>
            <p:cNvPr id="344" name=""/>
            <p:cNvCxnSpPr>
              <a:stCxn id="345" idx="3"/>
              <a:endCxn id="346" idx="3"/>
            </p:cNvCxnSpPr>
            <p:nvPr/>
          </p:nvCxnSpPr>
          <p:spPr>
            <a:xfrm>
              <a:off x="3809520" y="3808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45" name=""/>
            <p:cNvSpPr/>
            <p:nvPr/>
          </p:nvSpPr>
          <p:spPr>
            <a:xfrm>
              <a:off x="3733920" y="3049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4572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038480" y="3808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tart daem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48320" y="-3808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NifDaemonProgr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09880" y="-152280"/>
            <a:ext cx="0" cy="7010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2590920" y="7621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517120" y="609480"/>
            <a:ext cx="1398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809880" y="9907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809880" y="83808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ewL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5181480" y="1143000"/>
            <a:ext cx="1676520" cy="380520"/>
            <a:chOff x="5181480" y="1143000"/>
            <a:chExt cx="1676520" cy="380520"/>
          </a:xfrm>
        </p:grpSpPr>
        <p:cxnSp>
          <p:nvCxnSpPr>
            <p:cNvPr id="355" name=""/>
            <p:cNvCxnSpPr>
              <a:stCxn id="356" idx="3"/>
              <a:endCxn id="357" idx="3"/>
            </p:cNvCxnSpPr>
            <p:nvPr/>
          </p:nvCxnSpPr>
          <p:spPr>
            <a:xfrm>
              <a:off x="5257800" y="1218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6" name=""/>
            <p:cNvSpPr/>
            <p:nvPr/>
          </p:nvSpPr>
          <p:spPr>
            <a:xfrm>
              <a:off x="5181480" y="1143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81480" y="1295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86400" y="1218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onstruct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257800" y="1600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144792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5181480" y="1676520"/>
            <a:ext cx="1676520" cy="380520"/>
            <a:chOff x="5181480" y="1676520"/>
            <a:chExt cx="1676520" cy="380520"/>
          </a:xfrm>
        </p:grpSpPr>
        <p:cxnSp>
          <p:nvCxnSpPr>
            <p:cNvPr id="362" name=""/>
            <p:cNvCxnSpPr>
              <a:stCxn id="363" idx="3"/>
              <a:endCxn id="364" idx="3"/>
            </p:cNvCxnSpPr>
            <p:nvPr/>
          </p:nvCxnSpPr>
          <p:spPr>
            <a:xfrm>
              <a:off x="5257800" y="1752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3" name=""/>
            <p:cNvSpPr/>
            <p:nvPr/>
          </p:nvSpPr>
          <p:spPr>
            <a:xfrm>
              <a:off x="5181480" y="1676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81480" y="1828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86400" y="1752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H="1">
            <a:off x="2590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21640" y="2057400"/>
            <a:ext cx="18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4382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802760" y="2286000"/>
            <a:ext cx="51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257800" y="2895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05520" y="2743200"/>
            <a:ext cx="1523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2362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1523880"/>
            <a:ext cx="99072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ne or more progress notifications are reported during the configuration process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"/>
          <p:cNvCxnSpPr>
            <a:stCxn id="373" idx="1"/>
            <a:endCxn id="371" idx="0"/>
          </p:cNvCxnSpPr>
          <p:nvPr/>
        </p:nvCxnSpPr>
        <p:spPr>
          <a:xfrm flipH="1">
            <a:off x="5866560" y="1758960"/>
            <a:ext cx="1220040" cy="9849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5" name=""/>
          <p:cNvSpPr/>
          <p:nvPr/>
        </p:nvSpPr>
        <p:spPr>
          <a:xfrm flipH="1">
            <a:off x="2590920" y="312408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657600" y="2971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0720" y="2362320"/>
            <a:ext cx="115884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tification is passed to the CNifAgentRef instance and the call is re-issu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"/>
          <p:cNvCxnSpPr>
            <a:stCxn id="377" idx="3"/>
            <a:endCxn id="376" idx="1"/>
          </p:cNvCxnSpPr>
          <p:nvPr/>
        </p:nvCxnSpPr>
        <p:spPr>
          <a:xfrm>
            <a:off x="2149200" y="2550600"/>
            <a:ext cx="1508760" cy="513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379" name=""/>
          <p:cNvSpPr/>
          <p:nvPr/>
        </p:nvSpPr>
        <p:spPr>
          <a:xfrm>
            <a:off x="525780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320040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181480" y="5867280"/>
            <a:ext cx="1676520" cy="381240"/>
            <a:chOff x="5181480" y="5867280"/>
            <a:chExt cx="1676520" cy="381240"/>
          </a:xfrm>
        </p:grpSpPr>
        <p:cxnSp>
          <p:nvCxnSpPr>
            <p:cNvPr id="382" name=""/>
            <p:cNvCxnSpPr>
              <a:stCxn id="383" idx="3"/>
              <a:endCxn id="384" idx="3"/>
            </p:cNvCxnSpPr>
            <p:nvPr/>
          </p:nvCxnSpPr>
          <p:spPr>
            <a:xfrm>
              <a:off x="5257800" y="59432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3" name=""/>
            <p:cNvSpPr/>
            <p:nvPr/>
          </p:nvSpPr>
          <p:spPr>
            <a:xfrm>
              <a:off x="5181480" y="58672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81480" y="60199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6400" y="59436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5029200" y="54864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809880" y="41148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95680" y="3962520"/>
            <a:ext cx="152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mpleted Config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25934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12640" y="4191120"/>
            <a:ext cx="1840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2590920" y="4572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667960" y="4419720"/>
            <a:ext cx="115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Ope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971800" y="44956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5029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40840" y="487692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52578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09880" y="510552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05720" y="4876920"/>
            <a:ext cx="10666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he progress notification is cancelled using the CAsyncDaemonCancel cla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9" name=""/>
          <p:cNvCxnSpPr>
            <a:stCxn id="398" idx="1"/>
            <a:endCxn id="400" idx="0"/>
          </p:cNvCxnSpPr>
          <p:nvPr/>
        </p:nvCxnSpPr>
        <p:spPr>
          <a:xfrm flipH="1">
            <a:off x="5866560" y="5111280"/>
            <a:ext cx="839160" cy="299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grpSp>
        <p:nvGrpSpPr>
          <p:cNvPr id="401" name=""/>
          <p:cNvGrpSpPr/>
          <p:nvPr/>
        </p:nvGrpSpPr>
        <p:grpSpPr>
          <a:xfrm>
            <a:off x="5181480" y="3429000"/>
            <a:ext cx="1676520" cy="380520"/>
            <a:chOff x="5181480" y="3429000"/>
            <a:chExt cx="1676520" cy="380520"/>
          </a:xfrm>
        </p:grpSpPr>
        <p:cxnSp>
          <p:nvCxnSpPr>
            <p:cNvPr id="402" name=""/>
            <p:cNvCxnSpPr>
              <a:stCxn id="403" idx="3"/>
              <a:endCxn id="404" idx="3"/>
            </p:cNvCxnSpPr>
            <p:nvPr/>
          </p:nvCxnSpPr>
          <p:spPr>
            <a:xfrm>
              <a:off x="5257800" y="350496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3" name=""/>
            <p:cNvSpPr/>
            <p:nvPr/>
          </p:nvSpPr>
          <p:spPr>
            <a:xfrm>
              <a:off x="5181480" y="342900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81480" y="358128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86400" y="350496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tActiv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257800" y="55627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257800" y="5410080"/>
            <a:ext cx="1219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ancel(progress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09880" y="64771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872960" y="632448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590920" y="67057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93080" y="6553080"/>
            <a:ext cx="1249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362320" y="152280"/>
            <a:ext cx="234720" cy="3962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4382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81280" y="990720"/>
            <a:ext cx="235080" cy="9144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733920" y="5562720"/>
            <a:ext cx="1675800" cy="380520"/>
            <a:chOff x="3733920" y="5562720"/>
            <a:chExt cx="1675800" cy="380520"/>
          </a:xfrm>
        </p:grpSpPr>
        <p:cxnSp>
          <p:nvCxnSpPr>
            <p:cNvPr id="415" name=""/>
            <p:cNvCxnSpPr>
              <a:stCxn id="416" idx="3"/>
              <a:endCxn id="417" idx="3"/>
            </p:cNvCxnSpPr>
            <p:nvPr/>
          </p:nvCxnSpPr>
          <p:spPr>
            <a:xfrm>
              <a:off x="3809520" y="5638680"/>
              <a:ext cx="180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6" name=""/>
            <p:cNvSpPr/>
            <p:nvPr/>
          </p:nvSpPr>
          <p:spPr>
            <a:xfrm>
              <a:off x="3733920" y="5562720"/>
              <a:ext cx="759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33920" y="5715000"/>
              <a:ext cx="7596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038480" y="5638680"/>
              <a:ext cx="13712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581280" y="51814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3809880" y="763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05320" y="7621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053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a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505320" y="510552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op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59436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1600200"/>
            <a:ext cx="761760" cy="228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connec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809880" y="6705720"/>
            <a:ext cx="15264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7" name=""/>
          <p:cNvCxnSpPr>
            <a:stCxn id="421" idx="2"/>
            <a:endCxn id="428" idx="0"/>
          </p:cNvCxnSpPr>
          <p:nvPr/>
        </p:nvCxnSpPr>
        <p:spPr>
          <a:xfrm>
            <a:off x="3885840" y="99036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30" idx="2"/>
            <a:endCxn id="431" idx="0"/>
          </p:cNvCxnSpPr>
          <p:nvPr/>
        </p:nvCxnSpPr>
        <p:spPr>
          <a:xfrm>
            <a:off x="3885840" y="31237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33" idx="2"/>
          </p:cNvCxnSpPr>
          <p:nvPr/>
        </p:nvCxnSpPr>
        <p:spPr>
          <a:xfrm>
            <a:off x="3885840" y="3962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35" idx="2"/>
            <a:endCxn id="426" idx="0"/>
          </p:cNvCxnSpPr>
          <p:nvPr/>
        </p:nvCxnSpPr>
        <p:spPr>
          <a:xfrm>
            <a:off x="3885840" y="65530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37" idx="3"/>
            <a:endCxn id="425" idx="1"/>
          </p:cNvCxnSpPr>
          <p:nvPr/>
        </p:nvCxnSpPr>
        <p:spPr>
          <a:xfrm>
            <a:off x="502884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8" name=""/>
          <p:cNvCxnSpPr>
            <a:stCxn id="439" idx="0"/>
            <a:endCxn id="425" idx="2"/>
          </p:cNvCxnSpPr>
          <p:nvPr/>
        </p:nvCxnSpPr>
        <p:spPr>
          <a:xfrm flipV="1">
            <a:off x="5714640" y="182808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441" idx="0"/>
            <a:endCxn id="421" idx="3"/>
          </p:cNvCxnSpPr>
          <p:nvPr/>
        </p:nvCxnSpPr>
        <p:spPr>
          <a:xfrm flipV="1" rot="16200000">
            <a:off x="4818960" y="322920"/>
            <a:ext cx="34380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2" name=""/>
          <p:cNvCxnSpPr>
            <a:stCxn id="443" idx="2"/>
            <a:endCxn id="424" idx="3"/>
          </p:cNvCxnSpPr>
          <p:nvPr/>
        </p:nvCxnSpPr>
        <p:spPr>
          <a:xfrm rot="5400000">
            <a:off x="4209120" y="3866760"/>
            <a:ext cx="2248920" cy="2134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45" idx="2"/>
            <a:endCxn id="424" idx="1"/>
          </p:cNvCxnSpPr>
          <p:nvPr/>
        </p:nvCxnSpPr>
        <p:spPr>
          <a:xfrm flipH="1" rot="16200000">
            <a:off x="1923840" y="4476240"/>
            <a:ext cx="1258200" cy="1905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7" idx="2"/>
            <a:endCxn id="421" idx="0"/>
          </p:cNvCxnSpPr>
          <p:nvPr/>
        </p:nvCxnSpPr>
        <p:spPr>
          <a:xfrm>
            <a:off x="3885840" y="533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8" name=""/>
          <p:cNvCxnSpPr>
            <a:stCxn id="420" idx="4"/>
            <a:endCxn id="447" idx="0"/>
          </p:cNvCxnSpPr>
          <p:nvPr/>
        </p:nvCxnSpPr>
        <p:spPr>
          <a:xfrm>
            <a:off x="3885840" y="228600"/>
            <a:ext cx="10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7" name=""/>
          <p:cNvSpPr/>
          <p:nvPr/>
        </p:nvSpPr>
        <p:spPr>
          <a:xfrm>
            <a:off x="3657600" y="304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657600" y="1143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Connec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NI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9" name=""/>
          <p:cNvCxnSpPr>
            <a:stCxn id="428" idx="2"/>
            <a:endCxn id="422" idx="0"/>
          </p:cNvCxnSpPr>
          <p:nvPr/>
        </p:nvCxnSpPr>
        <p:spPr>
          <a:xfrm>
            <a:off x="3885840" y="13712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3657600" y="1981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Up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50" idx="0"/>
            <a:endCxn id="422" idx="2"/>
          </p:cNvCxnSpPr>
          <p:nvPr/>
        </p:nvCxnSpPr>
        <p:spPr>
          <a:xfrm flipV="1">
            <a:off x="3885840" y="1828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9" name=""/>
          <p:cNvSpPr/>
          <p:nvPr/>
        </p:nvSpPr>
        <p:spPr>
          <a:xfrm>
            <a:off x="5486400" y="2057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39" idx="2"/>
            <a:endCxn id="431" idx="3"/>
          </p:cNvCxnSpPr>
          <p:nvPr/>
        </p:nvCxnSpPr>
        <p:spPr>
          <a:xfrm rot="5400000">
            <a:off x="4399920" y="2152440"/>
            <a:ext cx="118188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6172200" y="3581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"/>
          <p:cNvCxnSpPr>
            <a:stCxn id="425" idx="3"/>
            <a:endCxn id="443" idx="0"/>
          </p:cNvCxnSpPr>
          <p:nvPr/>
        </p:nvCxnSpPr>
        <p:spPr>
          <a:xfrm>
            <a:off x="6095520" y="1714320"/>
            <a:ext cx="305640" cy="1867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4" name=""/>
          <p:cNvCxnSpPr>
            <a:stCxn id="422" idx="1"/>
            <a:endCxn id="445" idx="0"/>
          </p:cNvCxnSpPr>
          <p:nvPr/>
        </p:nvCxnSpPr>
        <p:spPr>
          <a:xfrm flipV="1" rot="10800000">
            <a:off x="1599480" y="1713600"/>
            <a:ext cx="1905840" cy="2858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5" name=""/>
          <p:cNvCxnSpPr>
            <a:stCxn id="422" idx="1"/>
            <a:endCxn id="456" idx="0"/>
          </p:cNvCxnSpPr>
          <p:nvPr/>
        </p:nvCxnSpPr>
        <p:spPr>
          <a:xfrm flipV="1" rot="10800000">
            <a:off x="2361600" y="1713600"/>
            <a:ext cx="1143720" cy="2019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6" name=""/>
          <p:cNvSpPr/>
          <p:nvPr/>
        </p:nvSpPr>
        <p:spPr>
          <a:xfrm>
            <a:off x="213372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57600" y="37339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 Complete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7" name=""/>
          <p:cNvCxnSpPr>
            <a:stCxn id="433" idx="0"/>
            <a:endCxn id="431" idx="2"/>
          </p:cNvCxnSpPr>
          <p:nvPr/>
        </p:nvCxnSpPr>
        <p:spPr>
          <a:xfrm flipV="1">
            <a:off x="3885840" y="358092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58" name=""/>
          <p:cNvSpPr/>
          <p:nvPr/>
        </p:nvSpPr>
        <p:spPr>
          <a:xfrm>
            <a:off x="3657600" y="54864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9" name=""/>
          <p:cNvCxnSpPr>
            <a:stCxn id="458" idx="0"/>
            <a:endCxn id="423" idx="2"/>
          </p:cNvCxnSpPr>
          <p:nvPr/>
        </p:nvCxnSpPr>
        <p:spPr>
          <a:xfrm flipV="1">
            <a:off x="3885840" y="53334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5" name=""/>
          <p:cNvSpPr/>
          <p:nvPr/>
        </p:nvSpPr>
        <p:spPr>
          <a:xfrm>
            <a:off x="3657600" y="6324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gent Stopp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0" name=""/>
          <p:cNvCxnSpPr>
            <a:stCxn id="435" idx="0"/>
            <a:endCxn id="424" idx="2"/>
          </p:cNvCxnSpPr>
          <p:nvPr/>
        </p:nvCxnSpPr>
        <p:spPr>
          <a:xfrm flipV="1">
            <a:off x="3885840" y="6171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58" idx="2"/>
            <a:endCxn id="424" idx="0"/>
          </p:cNvCxnSpPr>
          <p:nvPr/>
        </p:nvCxnSpPr>
        <p:spPr>
          <a:xfrm>
            <a:off x="3885840" y="57146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63" idx="1"/>
            <a:endCxn id="464" idx="2"/>
          </p:cNvCxnSpPr>
          <p:nvPr/>
        </p:nvCxnSpPr>
        <p:spPr>
          <a:xfrm rot="10800000">
            <a:off x="3276000" y="3199680"/>
            <a:ext cx="22932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3124080" y="2971800"/>
            <a:ext cx="304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5" name=""/>
          <p:cNvCxnSpPr>
            <a:stCxn id="456" idx="2"/>
            <a:endCxn id="466" idx="1"/>
          </p:cNvCxnSpPr>
          <p:nvPr/>
        </p:nvCxnSpPr>
        <p:spPr>
          <a:xfrm flipH="1" rot="16200000">
            <a:off x="2266200" y="4057560"/>
            <a:ext cx="1334160" cy="1143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7" name=""/>
          <p:cNvCxnSpPr>
            <a:stCxn id="464" idx="3"/>
            <a:endCxn id="463" idx="0"/>
          </p:cNvCxnSpPr>
          <p:nvPr/>
        </p:nvCxnSpPr>
        <p:spPr>
          <a:xfrm>
            <a:off x="3429000" y="3086280"/>
            <a:ext cx="115200" cy="267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4572000" y="1600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"/>
          <p:cNvCxnSpPr>
            <a:stCxn id="437" idx="1"/>
            <a:endCxn id="422" idx="3"/>
          </p:cNvCxnSpPr>
          <p:nvPr/>
        </p:nvCxnSpPr>
        <p:spPr>
          <a:xfrm flipH="1">
            <a:off x="4266360" y="171432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5486400" y="1219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 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25" idx="0"/>
            <a:endCxn id="441" idx="2"/>
          </p:cNvCxnSpPr>
          <p:nvPr/>
        </p:nvCxnSpPr>
        <p:spPr>
          <a:xfrm flipV="1">
            <a:off x="5714640" y="1447200"/>
            <a:ext cx="1080" cy="153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0" name=""/>
          <p:cNvSpPr/>
          <p:nvPr/>
        </p:nvSpPr>
        <p:spPr>
          <a:xfrm>
            <a:off x="3505320" y="2438280"/>
            <a:ext cx="761760" cy="30492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657600" y="2895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Register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"/>
          <p:cNvCxnSpPr>
            <a:stCxn id="430" idx="0"/>
            <a:endCxn id="470" idx="2"/>
          </p:cNvCxnSpPr>
          <p:nvPr/>
        </p:nvCxnSpPr>
        <p:spPr>
          <a:xfrm flipV="1">
            <a:off x="3885840" y="27424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2" name=""/>
          <p:cNvCxnSpPr>
            <a:stCxn id="450" idx="2"/>
            <a:endCxn id="470" idx="0"/>
          </p:cNvCxnSpPr>
          <p:nvPr/>
        </p:nvCxnSpPr>
        <p:spPr>
          <a:xfrm>
            <a:off x="3885840" y="22093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3" name=""/>
          <p:cNvCxnSpPr>
            <a:stCxn id="439" idx="2"/>
            <a:endCxn id="470" idx="3"/>
          </p:cNvCxnSpPr>
          <p:nvPr/>
        </p:nvCxnSpPr>
        <p:spPr>
          <a:xfrm rot="5400000">
            <a:off x="4838040" y="1714320"/>
            <a:ext cx="305640" cy="1448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45" name=""/>
          <p:cNvSpPr/>
          <p:nvPr/>
        </p:nvSpPr>
        <p:spPr>
          <a:xfrm>
            <a:off x="1371600" y="4572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4" name=""/>
          <p:cNvCxnSpPr>
            <a:stCxn id="470" idx="1"/>
            <a:endCxn id="475" idx="0"/>
          </p:cNvCxnSpPr>
          <p:nvPr/>
        </p:nvCxnSpPr>
        <p:spPr>
          <a:xfrm flipV="1" rot="10800000">
            <a:off x="2742480" y="2590560"/>
            <a:ext cx="762840" cy="2134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6" name=""/>
          <p:cNvSpPr/>
          <p:nvPr/>
        </p:nvSpPr>
        <p:spPr>
          <a:xfrm>
            <a:off x="365760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7" name=""/>
          <p:cNvCxnSpPr>
            <a:stCxn id="476" idx="0"/>
          </p:cNvCxnSpPr>
          <p:nvPr/>
        </p:nvCxnSpPr>
        <p:spPr>
          <a:xfrm flipV="1">
            <a:off x="3886200" y="441900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8" name=""/>
          <p:cNvCxnSpPr>
            <a:stCxn id="476" idx="2"/>
            <a:endCxn id="423" idx="0"/>
          </p:cNvCxnSpPr>
          <p:nvPr/>
        </p:nvCxnSpPr>
        <p:spPr>
          <a:xfrm>
            <a:off x="3885840" y="48765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9" name=""/>
          <p:cNvSpPr/>
          <p:nvPr/>
        </p:nvSpPr>
        <p:spPr>
          <a:xfrm>
            <a:off x="5257800" y="4191120"/>
            <a:ext cx="762120" cy="304560"/>
          </a:xfrm>
          <a:prstGeom prst="roundRect">
            <a:avLst>
              <a:gd name="adj" fmla="val 16667"/>
            </a:avLst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rma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Pseudo Sta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95680" y="4038480"/>
            <a:ext cx="5335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ed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eser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"/>
          <p:cNvCxnSpPr>
            <a:stCxn id="480" idx="1"/>
            <a:endCxn id="482" idx="3"/>
          </p:cNvCxnSpPr>
          <p:nvPr/>
        </p:nvCxnSpPr>
        <p:spPr>
          <a:xfrm flipV="1" rot="10800000">
            <a:off x="426636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3" name=""/>
          <p:cNvCxnSpPr>
            <a:stCxn id="480" idx="3"/>
            <a:endCxn id="484" idx="1"/>
          </p:cNvCxnSpPr>
          <p:nvPr/>
        </p:nvCxnSpPr>
        <p:spPr>
          <a:xfrm>
            <a:off x="5028840" y="4152960"/>
            <a:ext cx="22932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4572000" y="4419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"/>
          <p:cNvCxnSpPr>
            <a:stCxn id="487" idx="1"/>
            <a:endCxn id="485" idx="3"/>
          </p:cNvCxnSpPr>
          <p:nvPr/>
        </p:nvCxnSpPr>
        <p:spPr>
          <a:xfrm flipV="1" rot="10800000">
            <a:off x="4952160" y="4456800"/>
            <a:ext cx="305640" cy="76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5" idx="1"/>
            <a:endCxn id="489" idx="3"/>
          </p:cNvCxnSpPr>
          <p:nvPr/>
        </p:nvCxnSpPr>
        <p:spPr>
          <a:xfrm rot="10800000">
            <a:off x="4266360" y="4444200"/>
            <a:ext cx="305640" cy="8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90" name=""/>
          <p:cNvGrpSpPr/>
          <p:nvPr/>
        </p:nvGrpSpPr>
        <p:grpSpPr>
          <a:xfrm>
            <a:off x="3505320" y="4191120"/>
            <a:ext cx="761760" cy="304200"/>
            <a:chOff x="3505320" y="4191120"/>
            <a:chExt cx="761760" cy="304200"/>
          </a:xfrm>
        </p:grpSpPr>
        <p:sp>
          <p:nvSpPr>
            <p:cNvPr id="491" name=""/>
            <p:cNvSpPr/>
            <p:nvPr/>
          </p:nvSpPr>
          <p:spPr>
            <a:xfrm>
              <a:off x="3505320" y="4191120"/>
              <a:ext cx="761760" cy="304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eregistration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(New State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91120" y="4393800"/>
              <a:ext cx="75960" cy="1015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4724280" y="3581280"/>
            <a:ext cx="609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Exited/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Tim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3" name=""/>
          <p:cNvCxnSpPr>
            <a:stCxn id="479" idx="0"/>
            <a:endCxn id="492" idx="3"/>
          </p:cNvCxnSpPr>
          <p:nvPr/>
        </p:nvCxnSpPr>
        <p:spPr>
          <a:xfrm flipV="1" rot="16200000">
            <a:off x="5238360" y="3790440"/>
            <a:ext cx="496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92" idx="1"/>
            <a:endCxn id="495" idx="3"/>
          </p:cNvCxnSpPr>
          <p:nvPr/>
        </p:nvCxnSpPr>
        <p:spPr>
          <a:xfrm rot="10800000">
            <a:off x="4266360" y="3542760"/>
            <a:ext cx="457920" cy="15300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6" name=""/>
          <p:cNvCxnSpPr>
            <a:stCxn id="491" idx="1"/>
            <a:endCxn id="445" idx="0"/>
          </p:cNvCxnSpPr>
          <p:nvPr/>
        </p:nvCxnSpPr>
        <p:spPr>
          <a:xfrm flipV="1" rot="10800000">
            <a:off x="1599480" y="4342320"/>
            <a:ext cx="190584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97" name=""/>
          <p:cNvGrpSpPr/>
          <p:nvPr/>
        </p:nvGrpSpPr>
        <p:grpSpPr>
          <a:xfrm>
            <a:off x="3505320" y="3352680"/>
            <a:ext cx="761760" cy="228600"/>
            <a:chOff x="3505320" y="3352680"/>
            <a:chExt cx="761760" cy="228600"/>
          </a:xfrm>
        </p:grpSpPr>
        <p:grpSp>
          <p:nvGrpSpPr>
            <p:cNvPr id="498" name=""/>
            <p:cNvGrpSpPr/>
            <p:nvPr/>
          </p:nvGrpSpPr>
          <p:grpSpPr>
            <a:xfrm>
              <a:off x="3505320" y="3352680"/>
              <a:ext cx="761760" cy="228600"/>
              <a:chOff x="3505320" y="3352680"/>
              <a:chExt cx="761760" cy="228600"/>
            </a:xfrm>
          </p:grpSpPr>
          <p:sp>
            <p:nvSpPr>
              <p:cNvPr id="431" name=""/>
              <p:cNvSpPr/>
              <p:nvPr/>
            </p:nvSpPr>
            <p:spPr>
              <a:xfrm>
                <a:off x="3505320" y="3352680"/>
                <a:ext cx="761760" cy="228600"/>
              </a:xfrm>
              <a:prstGeom prst="roundRect">
                <a:avLst>
                  <a:gd name="adj" fmla="val 16667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Link U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91120" y="3505320"/>
                <a:ext cx="759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505320" y="3352680"/>
              <a:ext cx="759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>
            <a:off x="3505320" y="35053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809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2" name=""/>
          <p:cNvCxnSpPr>
            <a:stCxn id="500" idx="1"/>
            <a:endCxn id="501" idx="0"/>
          </p:cNvCxnSpPr>
          <p:nvPr/>
        </p:nvCxnSpPr>
        <p:spPr>
          <a:xfrm flipV="1" rot="10800000">
            <a:off x="3123360" y="3543120"/>
            <a:ext cx="38196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35053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1" idx="2"/>
            <a:endCxn id="503" idx="1"/>
          </p:cNvCxnSpPr>
          <p:nvPr/>
        </p:nvCxnSpPr>
        <p:spPr>
          <a:xfrm flipH="1" rot="16200000">
            <a:off x="3218400" y="3943080"/>
            <a:ext cx="191520" cy="381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5" name=""/>
          <p:cNvSpPr/>
          <p:nvPr/>
        </p:nvSpPr>
        <p:spPr>
          <a:xfrm>
            <a:off x="36576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715000" y="434340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64832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8" name=""/>
          <p:cNvCxnSpPr>
            <a:stCxn id="479" idx="2"/>
            <a:endCxn id="507" idx="3"/>
          </p:cNvCxnSpPr>
          <p:nvPr/>
        </p:nvCxnSpPr>
        <p:spPr>
          <a:xfrm rot="5400000">
            <a:off x="5009400" y="4590720"/>
            <a:ext cx="72468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507" idx="1"/>
            <a:endCxn id="423" idx="3"/>
          </p:cNvCxnSpPr>
          <p:nvPr/>
        </p:nvCxnSpPr>
        <p:spPr>
          <a:xfrm flipH="1">
            <a:off x="4266360" y="521928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5" name=""/>
          <p:cNvSpPr/>
          <p:nvPr/>
        </p:nvSpPr>
        <p:spPr>
          <a:xfrm>
            <a:off x="251460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uthor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0" name=""/>
          <p:cNvCxnSpPr>
            <a:stCxn id="431" idx="1"/>
            <a:endCxn id="475" idx="0"/>
          </p:cNvCxnSpPr>
          <p:nvPr/>
        </p:nvCxnSpPr>
        <p:spPr>
          <a:xfrm flipV="1" rot="10800000">
            <a:off x="2742480" y="3466800"/>
            <a:ext cx="762840" cy="12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1" name=""/>
          <p:cNvSpPr/>
          <p:nvPr/>
        </p:nvSpPr>
        <p:spPr>
          <a:xfrm>
            <a:off x="3505320" y="43434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"/>
          <p:cNvCxnSpPr>
            <a:stCxn id="513" idx="1"/>
            <a:endCxn id="475" idx="0"/>
          </p:cNvCxnSpPr>
          <p:nvPr/>
        </p:nvCxnSpPr>
        <p:spPr>
          <a:xfrm flipV="1" rot="10800000">
            <a:off x="2742480" y="4457520"/>
            <a:ext cx="762840" cy="2671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475" idx="2"/>
            <a:endCxn id="515" idx="1"/>
          </p:cNvCxnSpPr>
          <p:nvPr/>
        </p:nvCxnSpPr>
        <p:spPr>
          <a:xfrm flipH="1" rot="16200000">
            <a:off x="3027960" y="4667040"/>
            <a:ext cx="191520" cy="762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505320" y="51055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257800" y="44197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41911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"/>
          <p:cNvCxnSpPr>
            <a:stCxn id="470" idx="1"/>
            <a:endCxn id="501" idx="0"/>
          </p:cNvCxnSpPr>
          <p:nvPr/>
        </p:nvCxnSpPr>
        <p:spPr>
          <a:xfrm flipV="1" rot="10800000">
            <a:off x="3123360" y="2590560"/>
            <a:ext cx="381960" cy="1219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3" name=""/>
          <p:cNvSpPr/>
          <p:nvPr/>
        </p:nvSpPr>
        <p:spPr>
          <a:xfrm>
            <a:off x="35053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191120" y="41911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75248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Down: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9" name=""/>
          <p:cNvCxnSpPr>
            <a:stCxn id="491" idx="1"/>
            <a:endCxn id="518" idx="0"/>
          </p:cNvCxnSpPr>
          <p:nvPr/>
        </p:nvCxnSpPr>
        <p:spPr>
          <a:xfrm flipV="1" rot="10800000">
            <a:off x="1980360" y="4342320"/>
            <a:ext cx="1524960" cy="1067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0" name=""/>
          <p:cNvCxnSpPr>
            <a:stCxn id="518" idx="2"/>
            <a:endCxn id="424" idx="1"/>
          </p:cNvCxnSpPr>
          <p:nvPr/>
        </p:nvCxnSpPr>
        <p:spPr>
          <a:xfrm flipH="1" rot="16200000">
            <a:off x="2533320" y="5085720"/>
            <a:ext cx="420120" cy="152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1" name=""/>
          <p:cNvCxnSpPr>
            <a:stCxn id="499" idx="1"/>
            <a:endCxn id="445" idx="0"/>
          </p:cNvCxnSpPr>
          <p:nvPr/>
        </p:nvCxnSpPr>
        <p:spPr>
          <a:xfrm flipV="1" rot="10800000">
            <a:off x="1599480" y="3389760"/>
            <a:ext cx="1905840" cy="1181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22" name=""/>
          <p:cNvGrpSpPr/>
          <p:nvPr/>
        </p:nvGrpSpPr>
        <p:grpSpPr>
          <a:xfrm>
            <a:off x="2286000" y="3352680"/>
            <a:ext cx="152280" cy="76320"/>
            <a:chOff x="2286000" y="3352680"/>
            <a:chExt cx="152280" cy="76320"/>
          </a:xfrm>
        </p:grpSpPr>
        <p:sp>
          <p:nvSpPr>
            <p:cNvPr id="523" name=""/>
            <p:cNvSpPr/>
            <p:nvPr/>
          </p:nvSpPr>
          <p:spPr>
            <a:xfrm>
              <a:off x="2286000" y="335268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339084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361960" y="335268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048120" y="3429000"/>
            <a:ext cx="152280" cy="76320"/>
            <a:chOff x="3048120" y="3429000"/>
            <a:chExt cx="152280" cy="76320"/>
          </a:xfrm>
        </p:grpSpPr>
        <p:sp>
          <p:nvSpPr>
            <p:cNvPr id="527" name=""/>
            <p:cNvSpPr/>
            <p:nvPr/>
          </p:nvSpPr>
          <p:spPr>
            <a:xfrm>
              <a:off x="3048120" y="3429000"/>
              <a:ext cx="15228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67160"/>
              <a:ext cx="15228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124080" y="3429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2286000" y="4267080"/>
            <a:ext cx="152280" cy="152640"/>
            <a:chOff x="2286000" y="4267080"/>
            <a:chExt cx="152280" cy="152640"/>
          </a:xfrm>
        </p:grpSpPr>
        <p:sp>
          <p:nvSpPr>
            <p:cNvPr id="531" name=""/>
            <p:cNvSpPr/>
            <p:nvPr/>
          </p:nvSpPr>
          <p:spPr>
            <a:xfrm>
              <a:off x="2286000" y="42670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286000" y="4343400"/>
              <a:ext cx="15228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36196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" name=""/>
          <p:cNvGrpSpPr/>
          <p:nvPr/>
        </p:nvGrpSpPr>
        <p:grpSpPr>
          <a:xfrm>
            <a:off x="2666880" y="4267080"/>
            <a:ext cx="152640" cy="152640"/>
            <a:chOff x="2666880" y="4267080"/>
            <a:chExt cx="152640" cy="152640"/>
          </a:xfrm>
        </p:grpSpPr>
        <p:sp>
          <p:nvSpPr>
            <p:cNvPr id="535" name=""/>
            <p:cNvSpPr/>
            <p:nvPr/>
          </p:nvSpPr>
          <p:spPr>
            <a:xfrm>
              <a:off x="2666880" y="4267080"/>
              <a:ext cx="15264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666880" y="4343400"/>
              <a:ext cx="1526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742840" y="4267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3505320" y="5259240"/>
            <a:ext cx="7596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525780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505320" y="4419720"/>
            <a:ext cx="7596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995560" y="2305080"/>
            <a:ext cx="3229200" cy="2557440"/>
          </a:xfrm>
          <a:custGeom>
            <a:avLst/>
            <a:gdLst/>
            <a:ahLst/>
            <a:rect l="l" t="t" r="r" b="b"/>
            <a:pathLst>
              <a:path w="2034" h="1611">
                <a:moveTo>
                  <a:pt x="141" y="96"/>
                </a:moveTo>
                <a:cubicBezTo>
                  <a:pt x="72" y="144"/>
                  <a:pt x="0" y="273"/>
                  <a:pt x="12" y="366"/>
                </a:cubicBezTo>
                <a:cubicBezTo>
                  <a:pt x="15" y="436"/>
                  <a:pt x="1" y="438"/>
                  <a:pt x="18" y="480"/>
                </a:cubicBezTo>
                <a:cubicBezTo>
                  <a:pt x="23" y="523"/>
                  <a:pt x="19" y="560"/>
                  <a:pt x="42" y="624"/>
                </a:cubicBezTo>
                <a:cubicBezTo>
                  <a:pt x="65" y="688"/>
                  <a:pt x="123" y="807"/>
                  <a:pt x="159" y="867"/>
                </a:cubicBezTo>
                <a:cubicBezTo>
                  <a:pt x="167" y="879"/>
                  <a:pt x="245" y="979"/>
                  <a:pt x="257" y="987"/>
                </a:cubicBezTo>
                <a:cubicBezTo>
                  <a:pt x="315" y="1026"/>
                  <a:pt x="381" y="1035"/>
                  <a:pt x="449" y="1041"/>
                </a:cubicBezTo>
                <a:cubicBezTo>
                  <a:pt x="525" y="1039"/>
                  <a:pt x="601" y="1039"/>
                  <a:pt x="677" y="1035"/>
                </a:cubicBezTo>
                <a:cubicBezTo>
                  <a:pt x="709" y="1033"/>
                  <a:pt x="747" y="1014"/>
                  <a:pt x="779" y="1005"/>
                </a:cubicBezTo>
                <a:cubicBezTo>
                  <a:pt x="831" y="990"/>
                  <a:pt x="884" y="980"/>
                  <a:pt x="935" y="963"/>
                </a:cubicBezTo>
                <a:cubicBezTo>
                  <a:pt x="1019" y="973"/>
                  <a:pt x="1155" y="968"/>
                  <a:pt x="1218" y="1017"/>
                </a:cubicBezTo>
                <a:cubicBezTo>
                  <a:pt x="1287" y="1074"/>
                  <a:pt x="1291" y="1195"/>
                  <a:pt x="1311" y="1254"/>
                </a:cubicBezTo>
                <a:cubicBezTo>
                  <a:pt x="1318" y="1307"/>
                  <a:pt x="1342" y="1407"/>
                  <a:pt x="1368" y="1458"/>
                </a:cubicBezTo>
                <a:cubicBezTo>
                  <a:pt x="1426" y="1575"/>
                  <a:pt x="1506" y="1584"/>
                  <a:pt x="1625" y="1599"/>
                </a:cubicBezTo>
                <a:cubicBezTo>
                  <a:pt x="1659" y="1603"/>
                  <a:pt x="1693" y="1607"/>
                  <a:pt x="1727" y="1611"/>
                </a:cubicBezTo>
                <a:cubicBezTo>
                  <a:pt x="1755" y="1609"/>
                  <a:pt x="1783" y="1609"/>
                  <a:pt x="1811" y="1605"/>
                </a:cubicBezTo>
                <a:cubicBezTo>
                  <a:pt x="1824" y="1603"/>
                  <a:pt x="1847" y="1593"/>
                  <a:pt x="1847" y="1593"/>
                </a:cubicBezTo>
                <a:cubicBezTo>
                  <a:pt x="1863" y="1577"/>
                  <a:pt x="1885" y="1567"/>
                  <a:pt x="1901" y="1551"/>
                </a:cubicBezTo>
                <a:cubicBezTo>
                  <a:pt x="1930" y="1522"/>
                  <a:pt x="1956" y="1490"/>
                  <a:pt x="1985" y="1461"/>
                </a:cubicBezTo>
                <a:cubicBezTo>
                  <a:pt x="2000" y="1416"/>
                  <a:pt x="1980" y="1472"/>
                  <a:pt x="2003" y="1425"/>
                </a:cubicBezTo>
                <a:cubicBezTo>
                  <a:pt x="2013" y="1405"/>
                  <a:pt x="2015" y="1380"/>
                  <a:pt x="2021" y="1359"/>
                </a:cubicBezTo>
                <a:cubicBezTo>
                  <a:pt x="2025" y="1343"/>
                  <a:pt x="2033" y="1311"/>
                  <a:pt x="2033" y="1311"/>
                </a:cubicBezTo>
                <a:cubicBezTo>
                  <a:pt x="2029" y="1237"/>
                  <a:pt x="2034" y="1154"/>
                  <a:pt x="1991" y="1089"/>
                </a:cubicBezTo>
                <a:cubicBezTo>
                  <a:pt x="1963" y="1018"/>
                  <a:pt x="1915" y="979"/>
                  <a:pt x="1884" y="936"/>
                </a:cubicBezTo>
                <a:cubicBezTo>
                  <a:pt x="1868" y="914"/>
                  <a:pt x="1824" y="850"/>
                  <a:pt x="1805" y="831"/>
                </a:cubicBezTo>
                <a:cubicBezTo>
                  <a:pt x="1787" y="754"/>
                  <a:pt x="1794" y="551"/>
                  <a:pt x="1773" y="472"/>
                </a:cubicBezTo>
                <a:cubicBezTo>
                  <a:pt x="1736" y="435"/>
                  <a:pt x="1725" y="390"/>
                  <a:pt x="1681" y="360"/>
                </a:cubicBezTo>
                <a:cubicBezTo>
                  <a:pt x="1597" y="325"/>
                  <a:pt x="1539" y="281"/>
                  <a:pt x="1469" y="264"/>
                </a:cubicBezTo>
                <a:cubicBezTo>
                  <a:pt x="1399" y="247"/>
                  <a:pt x="1368" y="292"/>
                  <a:pt x="1259" y="255"/>
                </a:cubicBezTo>
                <a:cubicBezTo>
                  <a:pt x="1225" y="207"/>
                  <a:pt x="862" y="76"/>
                  <a:pt x="813" y="39"/>
                </a:cubicBezTo>
                <a:cubicBezTo>
                  <a:pt x="662" y="0"/>
                  <a:pt x="517" y="21"/>
                  <a:pt x="354" y="21"/>
                </a:cubicBezTo>
                <a:cubicBezTo>
                  <a:pt x="319" y="24"/>
                  <a:pt x="222" y="27"/>
                  <a:pt x="141" y="96"/>
                </a:cubicBez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629400" y="1981080"/>
            <a:ext cx="990720" cy="703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tates are really all in the NIfman Link Up sta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"/>
          <p:cNvCxnSpPr>
            <a:stCxn id="540" idx="1"/>
            <a:endCxn id="539" idx="0"/>
          </p:cNvCxnSpPr>
          <p:nvPr/>
        </p:nvCxnSpPr>
        <p:spPr>
          <a:xfrm flipH="1">
            <a:off x="5809680" y="2336400"/>
            <a:ext cx="819720" cy="7178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542" name=""/>
          <p:cNvSpPr/>
          <p:nvPr/>
        </p:nvSpPr>
        <p:spPr>
          <a:xfrm>
            <a:off x="4191120" y="335268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"/>
          <p:cNvCxnSpPr>
            <a:stCxn id="542" idx="0"/>
            <a:endCxn id="544" idx="1"/>
          </p:cNvCxnSpPr>
          <p:nvPr/>
        </p:nvCxnSpPr>
        <p:spPr>
          <a:xfrm flipH="1" flipV="1" rot="5400000">
            <a:off x="4171680" y="3104640"/>
            <a:ext cx="305280" cy="191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4419720" y="28954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4" idx="2"/>
            <a:endCxn id="542" idx="3"/>
          </p:cNvCxnSpPr>
          <p:nvPr/>
        </p:nvCxnSpPr>
        <p:spPr>
          <a:xfrm rot="5400000">
            <a:off x="4552200" y="2914200"/>
            <a:ext cx="191160" cy="7628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2438280" y="838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Se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724280" y="8380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386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4320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875480" y="45720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G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88620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48320" y="533520"/>
            <a:ext cx="0" cy="49528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5627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4290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267080" y="10666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4852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1520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3429000" y="1523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813120" y="1371600"/>
            <a:ext cx="196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 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5530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48320" y="533520"/>
            <a:ext cx="0" cy="56386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267080" y="1066680"/>
            <a:ext cx="0" cy="510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429000" y="17524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81204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85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7945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2485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794560" y="2286000"/>
            <a:ext cx="2244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429000" y="2666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12760" y="2514600"/>
            <a:ext cx="20660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Sto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42900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57600" y="2743200"/>
            <a:ext cx="457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576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429000" y="3352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29000" y="3200400"/>
            <a:ext cx="7905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42900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276720" y="3429000"/>
            <a:ext cx="121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LinkLayerClos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429000" y="380988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498200" y="3657600"/>
            <a:ext cx="609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syncDe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172200" y="3809880"/>
            <a:ext cx="1676520" cy="381240"/>
            <a:chOff x="6172200" y="3809880"/>
            <a:chExt cx="1676520" cy="381240"/>
          </a:xfrm>
        </p:grpSpPr>
        <p:cxnSp>
          <p:nvCxnSpPr>
            <p:cNvPr id="591" name=""/>
            <p:cNvCxnSpPr>
              <a:stCxn id="592" idx="3"/>
              <a:endCxn id="593" idx="3"/>
            </p:cNvCxnSpPr>
            <p:nvPr/>
          </p:nvCxnSpPr>
          <p:spPr>
            <a:xfrm>
              <a:off x="6248520" y="3885840"/>
              <a:ext cx="2160" cy="19116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92" name=""/>
            <p:cNvSpPr/>
            <p:nvPr/>
          </p:nvSpPr>
          <p:spPr>
            <a:xfrm>
              <a:off x="6172200" y="3809880"/>
              <a:ext cx="7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172200" y="3962520"/>
              <a:ext cx="7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477120" y="388620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ele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62485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5600" y="4191120"/>
            <a:ext cx="375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429000" y="4572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038480" y="4419720"/>
            <a:ext cx="160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Unload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429000" y="4800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09880" y="46483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038480" y="4724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429000" y="5257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09880" y="5105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2742840" y="5486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133720" y="5334120"/>
            <a:ext cx="1904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Notification(KConnectionUninitialized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200400" y="2895480"/>
            <a:ext cx="235080" cy="167652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200400" y="4800600"/>
            <a:ext cx="228600" cy="4572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71600" y="182880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0" name=""/>
          <p:cNvCxnSpPr>
            <a:endCxn id="609" idx="3"/>
          </p:cNvCxnSpPr>
          <p:nvPr/>
        </p:nvCxnSpPr>
        <p:spPr>
          <a:xfrm flipH="1" flipV="1">
            <a:off x="2285640" y="1925280"/>
            <a:ext cx="915120" cy="132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1" name=""/>
          <p:cNvSpPr/>
          <p:nvPr/>
        </p:nvSpPr>
        <p:spPr>
          <a:xfrm>
            <a:off x="1447920" y="32767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topp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"/>
          <p:cNvCxnSpPr>
            <a:endCxn id="611" idx="3"/>
          </p:cNvCxnSpPr>
          <p:nvPr/>
        </p:nvCxnSpPr>
        <p:spPr>
          <a:xfrm flipH="1" flipV="1">
            <a:off x="2361960" y="3372840"/>
            <a:ext cx="838800" cy="361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13" name=""/>
          <p:cNvSpPr/>
          <p:nvPr/>
        </p:nvSpPr>
        <p:spPr>
          <a:xfrm>
            <a:off x="1447920" y="4648320"/>
            <a:ext cx="914400" cy="185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isconnecting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4" name=""/>
          <p:cNvCxnSpPr>
            <a:endCxn id="613" idx="3"/>
          </p:cNvCxnSpPr>
          <p:nvPr/>
        </p:nvCxnSpPr>
        <p:spPr>
          <a:xfrm flipH="1" flipV="1">
            <a:off x="2361960" y="4744800"/>
            <a:ext cx="8388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9625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800600" y="22096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Configura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95880" y="2209680"/>
            <a:ext cx="762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334120" y="18288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2428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667600" y="3886200"/>
            <a:ext cx="671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12408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PppNcp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18288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3886200" y="1905120"/>
            <a:ext cx="0" cy="3581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2320" y="22096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PppFs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6668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507480" y="41148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666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290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4497840" y="43434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26708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4724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640840" y="4572000"/>
            <a:ext cx="662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Up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42900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41008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77120" y="243828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523880" y="3505320"/>
            <a:ext cx="11890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layer renegotiation complete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77120" y="4876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looks for agent advertisements, sends RRQ, et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523880" y="25146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n inter-PDSN handoff occu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419720" y="33526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267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562720" y="358128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410080" y="3733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477120" y="3886200"/>
            <a:ext cx="1143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emon notified of start of potential handoff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42900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24080" y="3048120"/>
            <a:ext cx="15242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LayerDown(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NifIfNotifyType::ENo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666880" y="3048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667960" y="2895480"/>
            <a:ext cx="768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smLayerDown(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60020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124080" y="8380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AgentR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83808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If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724280" y="8380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NifDaemon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19920" y="838080"/>
            <a:ext cx="7617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124080" y="457200"/>
            <a:ext cx="66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038480" y="457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57800" y="4572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620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648320" y="533520"/>
            <a:ext cx="0" cy="464796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4290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267080" y="10666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33412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40080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048120" y="13716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744640" y="1219320"/>
            <a:ext cx="704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imerComple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9000" y="1523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432600" y="1371600"/>
            <a:ext cx="194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641760" y="1636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1905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648320" y="533520"/>
            <a:ext cx="0" cy="4724280"/>
          </a:xfrm>
          <a:prstGeom prst="line">
            <a:avLst/>
          </a:prstGeom>
          <a:ln w="9360">
            <a:solidFill>
              <a:srgbClr val="c0c0c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4267080" y="1066680"/>
            <a:ext cx="0" cy="4191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4290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431160" y="1600200"/>
            <a:ext cx="188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StartingDeregistra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334120" y="19810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880160" y="1828800"/>
            <a:ext cx="2172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(EConfigDaemonDeregisterCause*Timer,action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334120" y="3581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4879800" y="3429000"/>
            <a:ext cx="1875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279240" y="2514600"/>
            <a:ext cx="22154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eregistra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3352680" y="2819520"/>
            <a:ext cx="1676520" cy="380520"/>
            <a:chOff x="3352680" y="2819520"/>
            <a:chExt cx="1676520" cy="380520"/>
          </a:xfrm>
        </p:grpSpPr>
        <p:cxnSp>
          <p:nvCxnSpPr>
            <p:cNvPr id="681" name=""/>
            <p:cNvCxnSpPr>
              <a:stCxn id="682" idx="3"/>
              <a:endCxn id="683" idx="3"/>
            </p:cNvCxnSpPr>
            <p:nvPr/>
          </p:nvCxnSpPr>
          <p:spPr>
            <a:xfrm>
              <a:off x="3429000" y="2895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2" name=""/>
            <p:cNvSpPr/>
            <p:nvPr/>
          </p:nvSpPr>
          <p:spPr>
            <a:xfrm>
              <a:off x="3352680" y="2819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52680" y="2971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57600" y="2895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ctivate Dormant Stat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3200400" y="152388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2057400" y="1905120"/>
            <a:ext cx="68580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ing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7" name=""/>
          <p:cNvCxnSpPr>
            <a:endCxn id="686" idx="3"/>
          </p:cNvCxnSpPr>
          <p:nvPr/>
        </p:nvCxnSpPr>
        <p:spPr>
          <a:xfrm flipH="1" flipV="1">
            <a:off x="2742840" y="2047680"/>
            <a:ext cx="457920" cy="56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88" name=""/>
          <p:cNvSpPr/>
          <p:nvPr/>
        </p:nvSpPr>
        <p:spPr>
          <a:xfrm>
            <a:off x="3429000" y="2666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638680" y="30481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431160" y="3657600"/>
            <a:ext cx="191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fProgress(KConfigDaemonFinishedDormantMod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429000" y="38098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3352680" y="3962520"/>
            <a:ext cx="1676520" cy="380520"/>
            <a:chOff x="3352680" y="3962520"/>
            <a:chExt cx="1676520" cy="380520"/>
          </a:xfrm>
        </p:grpSpPr>
        <p:cxnSp>
          <p:nvCxnSpPr>
            <p:cNvPr id="693" name=""/>
            <p:cNvCxnSpPr>
              <a:stCxn id="694" idx="3"/>
              <a:endCxn id="695" idx="3"/>
            </p:cNvCxnSpPr>
            <p:nvPr/>
          </p:nvCxnSpPr>
          <p:spPr>
            <a:xfrm>
              <a:off x="3429000" y="4038480"/>
              <a:ext cx="2160" cy="190800"/>
            </a:xfrm>
            <a:prstGeom prst="curvedConnector5">
              <a:avLst>
                <a:gd name="adj1" fmla="val 14400000"/>
                <a:gd name="adj2" fmla="val 49905"/>
                <a:gd name="adj3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94" name=""/>
            <p:cNvSpPr/>
            <p:nvPr/>
          </p:nvSpPr>
          <p:spPr>
            <a:xfrm>
              <a:off x="3352680" y="3962520"/>
              <a:ext cx="763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52680" y="4114800"/>
              <a:ext cx="763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657600" y="4038480"/>
              <a:ext cx="1371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Remain in Link-Up/Reset Ti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3200400" y="3048120"/>
            <a:ext cx="235080" cy="114300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00400" y="4419720"/>
            <a:ext cx="235080" cy="761760"/>
          </a:xfrm>
          <a:custGeom>
            <a:avLst/>
            <a:gdLst/>
            <a:ahLst/>
            <a:rect l="l" t="t" r="r" b="b"/>
            <a:pathLst>
              <a:path w="148" h="660">
                <a:moveTo>
                  <a:pt x="148" y="0"/>
                </a:moveTo>
                <a:lnTo>
                  <a:pt x="4" y="96"/>
                </a:lnTo>
                <a:lnTo>
                  <a:pt x="0" y="540"/>
                </a:lnTo>
                <a:lnTo>
                  <a:pt x="144" y="660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2057400" y="3581280"/>
            <a:ext cx="7621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ormant State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(= Link Up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0" name=""/>
          <p:cNvCxnSpPr>
            <a:endCxn id="699" idx="3"/>
          </p:cNvCxnSpPr>
          <p:nvPr/>
        </p:nvCxnSpPr>
        <p:spPr>
          <a:xfrm flipH="1">
            <a:off x="2819160" y="3657240"/>
            <a:ext cx="381600" cy="673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1" name=""/>
          <p:cNvSpPr/>
          <p:nvPr/>
        </p:nvSpPr>
        <p:spPr>
          <a:xfrm>
            <a:off x="2057400" y="4343400"/>
            <a:ext cx="533520" cy="276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ink Up St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endCxn id="701" idx="3"/>
          </p:cNvCxnSpPr>
          <p:nvPr/>
        </p:nvCxnSpPr>
        <p:spPr>
          <a:xfrm flipH="1" flipV="1">
            <a:off x="2590200" y="4485960"/>
            <a:ext cx="610200" cy="2844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703" name=""/>
          <p:cNvSpPr/>
          <p:nvPr/>
        </p:nvSpPr>
        <p:spPr>
          <a:xfrm>
            <a:off x="3200400" y="4572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33412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880520" y="2286000"/>
            <a:ext cx="24102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register Completed(EConfigDaemonDeregisterActionPreserve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EXTVictorM</cp:lastModifiedBy>
  <dcterms:modified xsi:type="dcterms:W3CDTF">2004-08-21T00:47:50Z</dcterms:modified>
  <cp:revision>137</cp:revision>
  <dc:subject/>
  <dc:title>Slide 1</dc:title>
</cp:coreProperties>
</file>