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C4F81-AFD6-411C-8481-547E268D5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E5D51-B68D-464A-8F1F-F9FEB6E26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E80B6-E887-4E4F-BDD5-AEDD8615B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33B6F-573E-4AF6-A142-A7237DDBD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BA93D-A3D1-424A-A0F9-EDF124860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12562-4A9F-48B9-A36E-A945E9DAB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09B05-D4B3-4843-BCE3-97CB37B8A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B3EE6-AE8F-4B40-9DF0-B63E7B5F9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079E0-C000-4F8C-8C52-F9D1CBB6A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70ACD-FBE6-4019-9B63-7607CCA21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D674F-D978-49FA-9B6C-226DBA07C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37CCE-D111-4734-80DB-60149DFB7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D010D-5341-425B-AB6C-C808C1A027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OpenC layer Introduction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VN revision 142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898989"/>
                </a:solidFill>
                <a:latin typeface="Calibri"/>
              </a:rPr>
              <a:t>Disclaimer: things evol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898989"/>
                </a:solidFill>
                <a:latin typeface="Calibri"/>
              </a:rPr>
              <a:t>Ferenc Dosa-Rac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rapper and native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e </a:t>
            </a:r>
            <a:r>
              <a:rPr b="0" lang="fi-FI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c/private/wrappertraitsdb.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raits structs describe wrapper/nativ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TextBox 3"/>
          <p:cNvSpPr/>
          <p:nvPr/>
        </p:nvSpPr>
        <p:spPr>
          <a:xfrm>
            <a:off x="685800" y="2819520"/>
            <a:ext cx="8305920" cy="373356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wrappertraitsdb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P_CLASS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apperTraits&lt;WRP_CLASS&gt;::NativeClass *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st2Nativ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WRP_CLASS * 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 WrapperTraits&lt;WRP_CLASS&gt;::NativeClass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NativeCla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ativeCl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rv = NULL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p != NUL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v = reinterpret_cast&lt;NativeClass*&gt;(p-&gt;ptr_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rv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API: object lifetime mgm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native instance pointed by wrapper is owned by the wrapper usual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per is always dynamically alloc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_XXX_destroy() must be used: releases the native instance as well as the wrapp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hen the native instance pointed by wrapper is not owned by the wrappe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per can be on stack, initialized by CPi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No release is requir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urious Cpix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_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_IdxDb_release instead of _destroy to emphasize that multiple clients asking for the same index will share instance (to avoid Clucene lock collisions and for optimizatio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has handle_ instead of ptr_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_IdxSearch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ousin of cpix_IdxD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CLucene AP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”features”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lete is done through IndexRead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dding (indexing) is done through IndexWri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ing is done through IndexSearcher through IndexRead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Reader and IndexWriter LOCK the physical index  during their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a reader first will prevent creating a wri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a writer first will allow creating a reader for searching, but deletion will fai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”features”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Reader dele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As long as the same instance is used for searching than the one for deletion, deleted objects will not show up as hi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ne has to close() or commit() the reader to make sure the deletion information ends up on dis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62720" indent="-212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(According to the clucene comments, commit() is not supposed to be used by client programmers, it is meant as an internal thing onl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Wri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ollects docs in RAM-buffer (off to the side), regularly committing th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there is no search or delete through a wri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”features”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re is no update fun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e has to do deletion and addition manual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letion needs IndexReader, addition needs IndexWriter (go figur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Reader (when used for deleting) and IndexWriter are mutually exclusive on the same physical index databa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and destroying readers and writers are </a:t>
            </a:r>
            <a:r>
              <a:rPr b="1" lang="fi-FI" sz="2800" spc="-1" strike="noStrike" u="sng">
                <a:solidFill>
                  <a:srgbClr val="000000"/>
                </a:solidFill>
                <a:uFillTx/>
                <a:latin typeface="Calibri"/>
              </a:rPr>
              <a:t>costly IO oper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challeng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 is conceptually incremental (provides update functionality), but in practice it is nearly usel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messiest parts of Cpix (multithreading, async API, delta-commit-logic and IdxDb) are to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rovide a nice update feature on Cpix AP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ith as little performance loss as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ith as little update-delay as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Cpix in gener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IdxD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riginally, lucene IndexSearcher, IndexReader and IndexWriter were directly exposed as cpix_IndexSearcher, .... etc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at had to be re-wrought, because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ple clients (monitor and search) would lock each other out of the same physical inde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Gratuitous, frequent calls to those ”costly IO operations” would butcher perform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... IdxDb (off-to-the-side delta index) were bor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his slideset is .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3200" spc="-1" strike="noStrike">
                <a:solidFill>
                  <a:srgbClr val="000000"/>
                </a:solidFill>
                <a:latin typeface="Calibri"/>
              </a:rPr>
              <a:t>... NOT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an architecture or design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... merely a somewhat ordered collection of source code com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IdxDb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lways corresponds to a single physical index 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anages lucene IndexReader / -searcher / -writer instan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voids multiple clients locking each other ou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ries to minimize the number of necessary optimize() calls and lucene Index??? instance constructions and destru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IdxDb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_IdxDb refers to shared IdxDb instances through handl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singlet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anages IIdxDb (interface) instan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Persists registry (base app classes and path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Performs sanity checks as well as physically cleanup / prepare index directories, housekeep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ltiIdxD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mplements the same interface as IdxDb (w dummy modifier function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an search on multiple physical index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 fact it is a client to IdxDb instan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aggregates the IndexReaders obtained from IdxDb instances and using lucene Multi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 cpix_IdxSearcher has a handle 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ither an IdxDb (qual. baseappclass): single id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IdxDb (appclass (list)): multiple idx-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has 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++ exceptions thrown by STL, clucene of Cpix itself must not leave Cpix public func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y must be caught and transl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3200" spc="-1" strike="noStrike">
                <a:solidFill>
                  <a:srgbClr val="000000"/>
                </a:solidFill>
                <a:latin typeface="Calibri"/>
              </a:rPr>
              <a:t>Every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call to native function must be wrapped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try-catch syntax</a:t>
            </a:r>
            <a:br>
              <a:rPr sz="3200"/>
            </a:b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mands the operation</a:t>
            </a:r>
            <a:br>
              <a:rPr sz="3200"/>
            </a:b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be called in the try-bloc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TextBox 3"/>
          <p:cNvSpPr/>
          <p:nvPr/>
        </p:nvSpPr>
        <p:spPr>
          <a:xfrm>
            <a:off x="5181480" y="4191120"/>
            <a:ext cx="3505320" cy="243828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ry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nativeObject-&gt;doSomething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CLuceneError &amp; err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lucene er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CpixExc &amp; exc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lucene ex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std::exception &amp; ex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lucene ex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...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unknown ex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ternative solution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Copy-pasting the piece of code all over the pla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Readable, but utterly unmaintan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C-macr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undebuggable, non type safe, unread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Run-time interface for functor (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uncto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, and exec function (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unctor::doIt()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For each native member function ever called, there will have to be an 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unctor</a:t>
            </a: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 implementation – a lot of wor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Compile-time interface (template concept 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O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, and exec function (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OR::operator()()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Basically, for each number of arguments of any member function called, there will have to be a 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OR</a:t>
            </a: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 definition – far less wor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TextBox 4"/>
          <p:cNvSpPr/>
          <p:nvPr/>
        </p:nvSpPr>
        <p:spPr>
          <a:xfrm>
            <a:off x="779760" y="2286000"/>
            <a:ext cx="68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Wingdings"/>
                <a:ea typeface="Wingdings"/>
              </a:rPr>
              <a:t>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5"/>
          <p:cNvSpPr/>
          <p:nvPr/>
        </p:nvSpPr>
        <p:spPr>
          <a:xfrm>
            <a:off x="779760" y="3124080"/>
            <a:ext cx="68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Wingdings"/>
                <a:ea typeface="Wingdings"/>
              </a:rPr>
              <a:t>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6"/>
          <p:cNvSpPr/>
          <p:nvPr/>
        </p:nvSpPr>
        <p:spPr>
          <a:xfrm>
            <a:off x="779760" y="4343400"/>
            <a:ext cx="68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Wingdings"/>
                <a:ea typeface="Wingdings"/>
              </a:rPr>
              <a:t>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7"/>
          <p:cNvSpPr/>
          <p:nvPr/>
        </p:nvSpPr>
        <p:spPr>
          <a:xfrm>
            <a:off x="928080" y="5791320"/>
            <a:ext cx="384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Let’s say we want to implement public API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n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Using the native functio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im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s all excep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least amount of repeti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ation of new public Cpix functions should be fairly easy by following examp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3"/>
          <p:cNvSpPr/>
          <p:nvPr/>
        </p:nvSpPr>
        <p:spPr>
          <a:xfrm>
            <a:off x="3352680" y="2209680"/>
            <a:ext cx="5105520" cy="99072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cpix_Field_isBinary(cpix_Field * thisFiel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??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4"/>
          <p:cNvSpPr/>
          <p:nvPr/>
        </p:nvSpPr>
        <p:spPr>
          <a:xfrm>
            <a:off x="5181480" y="3809880"/>
            <a:ext cx="3505320" cy="144792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lass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Field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ool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sBinary()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val 5"/>
          <p:cNvSpPr/>
          <p:nvPr/>
        </p:nvSpPr>
        <p:spPr>
          <a:xfrm>
            <a:off x="3352680" y="2133720"/>
            <a:ext cx="5410440" cy="457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6"/>
          <p:cNvSpPr/>
          <p:nvPr/>
        </p:nvSpPr>
        <p:spPr>
          <a:xfrm>
            <a:off x="5715000" y="4114800"/>
            <a:ext cx="2743200" cy="457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3" name="Curved Connector 8"/>
          <p:cNvCxnSpPr>
            <a:stCxn id="171" idx="5"/>
            <a:endCxn id="172" idx="7"/>
          </p:cNvCxnSpPr>
          <p:nvPr/>
        </p:nvCxnSpPr>
        <p:spPr>
          <a:xfrm flipH="1" rot="16200000">
            <a:off x="7184880" y="3309480"/>
            <a:ext cx="1658160" cy="86400"/>
          </a:xfrm>
          <a:prstGeom prst="curvedConnector5">
            <a:avLst>
              <a:gd name="adj1" fmla="val 49989"/>
              <a:gd name="adj2" fmla="val 49790"/>
              <a:gd name="adj3" fmla="val 49989"/>
            </a:avLst>
          </a:prstGeom>
          <a:ln w="25560">
            <a:solidFill>
              <a:srgbClr val="ff0000"/>
            </a:solidFill>
            <a:miter/>
            <a:tailEnd len="lg" type="stealth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solving to native instance by wrapper pointer or hand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f cpix_XXX wrapper contains pointer, Cast2Native() must be call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 case of cpix_IdxDb and cpix_IdxSearcher (with handle), IIdxDb::getPtr() must be call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f HndlTraits and PtrResolver templates in cpixutil.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TextBox 3"/>
          <p:cNvSpPr/>
          <p:nvPr/>
        </p:nvSpPr>
        <p:spPr>
          <a:xfrm>
            <a:off x="2590920" y="5257800"/>
            <a:ext cx="6400800" cy="129528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PtrResolver&lt;WRP, HndlTraits&lt;WRP&gt;::V&gt; P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trResol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pr.ptr(); // value of expression of pointer to na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0" y="15238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 FUNCTO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s a call to a</a:t>
            </a:r>
            <a:br>
              <a:rPr sz="2800"/>
            </a:b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oid const</a:t>
            </a:r>
            <a:br>
              <a:rPr sz="2800"/>
            </a:b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ember fun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wner class,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arg types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do not matter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(template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thers 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store arguments for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e cal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3"/>
          <p:cNvSpPr/>
          <p:nvPr/>
        </p:nvSpPr>
        <p:spPr>
          <a:xfrm>
            <a:off x="3429000" y="838080"/>
            <a:ext cx="5562720" cy="586764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cpixutil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E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TR_RESOLVER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NA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uc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onstMemFunc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ET result_typ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TR_RESOLVER ptrResolver_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 (NAT:: * mFunc_)()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onstMemFuncCaller(PTR_RESOLVER ptrResolver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               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ET (NAT:: * mFunc)()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: ptrResolver_(ptrResolver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Func_(mFun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operato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)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ptr = ptrResolver_.ptr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eturn (ptr-&gt;*mFunc_)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e need a functor to get to native instance AND call function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 family of overloaded template free functions creating a type-correct FUNCTO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TextBox 3"/>
          <p:cNvSpPr/>
          <p:nvPr/>
        </p:nvSpPr>
        <p:spPr>
          <a:xfrm>
            <a:off x="1066680" y="3733920"/>
            <a:ext cx="7696440" cy="312408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cpixutil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P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E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NA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MemFuncCaller&lt;RET, PtrResolver&lt;WRP, HndlTraits&lt;WRP&gt;::V&gt;, NA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e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WRP        * thisObj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 (NAT:: * mFunc)()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trResolver&lt;WRP, HndlTraits&lt;WRP&gt;::V&gt;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P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stMemFuncCaller&lt;RET, PR, NAT&gt;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MFC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MFC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PR(thisObj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Func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’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ctual exception translation co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TextBox 3"/>
          <p:cNvSpPr/>
          <p:nvPr/>
        </p:nvSpPr>
        <p:spPr>
          <a:xfrm>
            <a:off x="2057400" y="2057400"/>
            <a:ext cx="6858000" cy="480060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cpixutil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P_CLASS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FUNCTO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FUNCTOR::result_type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XlateExc(WRP_CLASS     * thisObj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FUNCTOR         functo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ry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hisObj-&gt;err_ = NULL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functor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CLuceneError &amp; clErr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clucene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CpixExc &amp; cpixExc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cpix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std::exception &amp; stdExc)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std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...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unknown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Cpix public AP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o the implementation of cpix_Field_isBinar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lease call the Field::isBinary member function via the thisField-&gt;ptr_, translating any exceptions to thisField-&gt;err_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TextBox 5"/>
          <p:cNvSpPr/>
          <p:nvPr/>
        </p:nvSpPr>
        <p:spPr>
          <a:xfrm>
            <a:off x="1066680" y="2133720"/>
            <a:ext cx="7467840" cy="304776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cpix_Field_isBinary(cpix_Field * thisFiel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sing namespac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ucene::documen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o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v =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XlateExc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thisField,             // reporting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e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thisField,  // native instance from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&amp;Field::isBinary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atic_ca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(rv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ema con variazion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ree types of call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call to a ”member function” (XlateExc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creation of a native instance + wrapper (Creat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Initialization of wrapper with a native (Initializ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All three (XlateExc, Create, Initialize) are defined in cpixutil.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nly these catch and translate excep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Three loci to maintain instead of gazill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3"/>
          <p:cNvSpPr/>
          <p:nvPr/>
        </p:nvSpPr>
        <p:spPr>
          <a:xfrm>
            <a:off x="228600" y="2819520"/>
            <a:ext cx="8610480" cy="91440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QueryParser * rv =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reat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result,             // cpix_Result *, reporting er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Cto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v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  // dummy, conveys only 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ieldName, // const wchar_t 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st2Native&lt;cpix_Analyzer&gt;(analyzer)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4"/>
          <p:cNvSpPr/>
          <p:nvPr/>
        </p:nvSpPr>
        <p:spPr>
          <a:xfrm>
            <a:off x="228600" y="4267080"/>
            <a:ext cx="8686800" cy="114300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Initializ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field,               // cpix_Field *, reporting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Cto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fiel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// dummy, conveys only type inform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ame,       // const wchar_t 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,      // const wchar_t 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figs));  // int configuration flag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ema con variazioni con’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hen you obtain the native pointer, and you just need to wrap it: use CreateWrapp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3"/>
          <p:cNvSpPr/>
          <p:nvPr/>
        </p:nvSpPr>
        <p:spPr>
          <a:xfrm>
            <a:off x="380880" y="2666880"/>
            <a:ext cx="7848720" cy="396252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src/cpixdoc.cp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DocFieldEnum * cpix_Document_fields(cpix_Document * thisDocumen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DocFieldEn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rv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ULL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sing namespac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ucene::documen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ocumentFieldEnum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dfe = XlateExc(thisDocumen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ller(thisDocumen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amp;Document::fields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cpix_Succeeded(thisDocument)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CreateWrappe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dfe,           // native ptr, deleted on fail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hisDocument,  // report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v);           // ptr to wrapper stru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v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Async AP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must be as fast as possible (they should not wait for a lengthy indexing operation to complet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must be cancell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ing operations do not have to be fa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ing operations are not cancell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uffices to do well for one search client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But it should allow multiple search and index cli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_async.h / cp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ll ASYNC related functionality is declared in one header file, only one header to 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lease read the public API documentation comments in cpix_async.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any functions have both sync and async ver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f you use the ASYNC version of one function, they you must use the ASYNC version of all functions that provide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Async engine desig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Rectangle 3"/>
          <p:cNvSpPr/>
          <p:nvPr/>
        </p:nvSpPr>
        <p:spPr>
          <a:xfrm>
            <a:off x="2133720" y="2743200"/>
            <a:ext cx="990360" cy="16002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4"/>
          <p:cNvSpPr/>
          <p:nvPr/>
        </p:nvSpPr>
        <p:spPr>
          <a:xfrm>
            <a:off x="2514600" y="228600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6"/>
          <p:cNvSpPr/>
          <p:nvPr/>
        </p:nvSpPr>
        <p:spPr>
          <a:xfrm>
            <a:off x="2209680" y="3200400"/>
            <a:ext cx="83844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7"/>
          <p:cNvSpPr/>
          <p:nvPr/>
        </p:nvSpPr>
        <p:spPr>
          <a:xfrm>
            <a:off x="2209680" y="3581280"/>
            <a:ext cx="83844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2209680" y="3962520"/>
            <a:ext cx="83844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390600" y="3352680"/>
            <a:ext cx="164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Job Que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for ”QRY”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Freeform 17"/>
          <p:cNvSpPr/>
          <p:nvPr/>
        </p:nvSpPr>
        <p:spPr>
          <a:xfrm>
            <a:off x="2666880" y="5181480"/>
            <a:ext cx="163800" cy="1028880"/>
          </a:xfrm>
          <a:prstGeom prst="pi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18"/>
          <p:cNvSpPr/>
          <p:nvPr/>
        </p:nvSpPr>
        <p:spPr>
          <a:xfrm>
            <a:off x="1763280" y="4800600"/>
            <a:ext cx="213444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QRY” slave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Freeform 19"/>
          <p:cNvSpPr/>
          <p:nvPr/>
        </p:nvSpPr>
        <p:spPr>
          <a:xfrm>
            <a:off x="4267080" y="1828800"/>
            <a:ext cx="163800" cy="1028880"/>
          </a:xfrm>
          <a:prstGeom prst="pi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20"/>
          <p:cNvSpPr/>
          <p:nvPr/>
        </p:nvSpPr>
        <p:spPr>
          <a:xfrm>
            <a:off x="3403080" y="1447920"/>
            <a:ext cx="217404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Master (API)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3" name="Straight Arrow Connector 22"/>
          <p:cNvCxnSpPr>
            <a:stCxn id="211" idx="7"/>
            <a:endCxn id="204" idx="3"/>
          </p:cNvCxnSpPr>
          <p:nvPr/>
        </p:nvCxnSpPr>
        <p:spPr>
          <a:xfrm flipH="1">
            <a:off x="3352320" y="2171880"/>
            <a:ext cx="951840" cy="267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4" name="Straight Arrow Connector 24"/>
          <p:cNvCxnSpPr>
            <a:stCxn id="207" idx="2"/>
            <a:endCxn id="210" idx="0"/>
          </p:cNvCxnSpPr>
          <p:nvPr/>
        </p:nvCxnSpPr>
        <p:spPr>
          <a:xfrm>
            <a:off x="2629080" y="4267080"/>
            <a:ext cx="202320" cy="534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5" name="Rectangle 27"/>
          <p:cNvSpPr/>
          <p:nvPr/>
        </p:nvSpPr>
        <p:spPr>
          <a:xfrm>
            <a:off x="6095880" y="2743200"/>
            <a:ext cx="990720" cy="16002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28"/>
          <p:cNvSpPr/>
          <p:nvPr/>
        </p:nvSpPr>
        <p:spPr>
          <a:xfrm>
            <a:off x="5791320" y="228600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29"/>
          <p:cNvSpPr/>
          <p:nvPr/>
        </p:nvSpPr>
        <p:spPr>
          <a:xfrm>
            <a:off x="6172200" y="320040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30"/>
          <p:cNvSpPr/>
          <p:nvPr/>
        </p:nvSpPr>
        <p:spPr>
          <a:xfrm>
            <a:off x="6172200" y="358128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31"/>
          <p:cNvSpPr/>
          <p:nvPr/>
        </p:nvSpPr>
        <p:spPr>
          <a:xfrm>
            <a:off x="6172200" y="3962520"/>
            <a:ext cx="83808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32"/>
          <p:cNvSpPr/>
          <p:nvPr/>
        </p:nvSpPr>
        <p:spPr>
          <a:xfrm>
            <a:off x="7171920" y="3352680"/>
            <a:ext cx="152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Job Que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for ”IDX”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Freeform 33"/>
          <p:cNvSpPr/>
          <p:nvPr/>
        </p:nvSpPr>
        <p:spPr>
          <a:xfrm>
            <a:off x="6324480" y="5181480"/>
            <a:ext cx="163800" cy="1028880"/>
          </a:xfrm>
          <a:prstGeom prst="pi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34"/>
          <p:cNvSpPr/>
          <p:nvPr/>
        </p:nvSpPr>
        <p:spPr>
          <a:xfrm>
            <a:off x="5422320" y="4800600"/>
            <a:ext cx="202032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IDX” slave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3" name="Straight Arrow Connector 35"/>
          <p:cNvCxnSpPr>
            <a:stCxn id="211" idx="8"/>
            <a:endCxn id="216" idx="1"/>
          </p:cNvCxnSpPr>
          <p:nvPr/>
        </p:nvCxnSpPr>
        <p:spPr>
          <a:xfrm>
            <a:off x="4429080" y="2011320"/>
            <a:ext cx="1362960" cy="427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24" name="Straight Arrow Connector 36"/>
          <p:cNvCxnSpPr>
            <a:stCxn id="219" idx="2"/>
            <a:endCxn id="222" idx="0"/>
          </p:cNvCxnSpPr>
          <p:nvPr/>
        </p:nvCxnSpPr>
        <p:spPr>
          <a:xfrm flipH="1">
            <a:off x="6431760" y="4267080"/>
            <a:ext cx="159480" cy="534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25" name="TextBox 40"/>
          <p:cNvSpPr/>
          <p:nvPr/>
        </p:nvSpPr>
        <p:spPr>
          <a:xfrm>
            <a:off x="5800680" y="1600200"/>
            <a:ext cx="146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Creates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41"/>
          <p:cNvSpPr/>
          <p:nvPr/>
        </p:nvSpPr>
        <p:spPr>
          <a:xfrm>
            <a:off x="3517560" y="4267080"/>
            <a:ext cx="195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Consume/do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anc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ancel mea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 client does not have to collect the resul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it can get the callback until the cancel() method retu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 job, once submitted to asyn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st be either collected of its results, or cancelled (if operation is cancellab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... otherwise, leak occu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f client collects the results, it owns any result object, and is responsible for their dispos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ancel and job lifeti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t::JobQueu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orks like a synchronized queue (Cpt::SyncQueu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ctually has a SyncQueue member (delegation instead of inheritance due to ARM compil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also stores ”done but not-collected” jobs in a set – engine owns jobs until collected or cancell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essy bit: job destruction can happen both in master thread and in slave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voiding double destruction and leak is trick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ancel and job lifetime (cont’d)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 cpix_async.cpp: AsyncJob::cancel(), AsyncJob::doJob(), AsyncJob::Cancel()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ossible cases, at the time of a cance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Job not even started: the cancel operation in the context of the master thread takes it out of jobqueue and destroys it (aka ”shallow cancel”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Job being done: callback will not happen; the slave thread, upon job completion, will destroy the jo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Job already done: callback has already happened; the cancel operation running in the context of the master thread (client API) destroys the jo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 (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C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oss 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P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latform 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I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de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X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g Engine) OpenC laye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fines searching and indexing API in 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s it using Cluce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anages ”native” (i.e. Clucene) instan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ranslates C++ exceptions to non-exception based error report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While originally only a wrapper around Clucene, due to optimization issues it implements a significant bit of complexity on its own (own implementation is also C++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Multithread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Disclaim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public API does </a:t>
            </a:r>
            <a:r>
              <a:rPr b="1" i="1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NOT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support multithrea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or instance, if you have a cpix_Document or cpix_IdxSearcher, you must NOT use them from multiple threa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is is true for any cpix_XXX obj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You can, however, have two cpix_IdxSearchers instances in two threads that happen to search on the same domain selector (like ”root”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Raison d’êt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owever, Cpix does provide asyn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implementation of the async API requires the async jobs to be performed by slave threa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ence the need for thread-safe impl of certain parts of CPi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onceptually, CLucene does not need to be MT-enabled, because the whole point of IdxDb is to manage the exclusive instances of readers/wri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Clucene has global caches too ...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Multithread CLuce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 can be configured for M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at uses up a lot of mutexes, practically, each added document, during a merge (at peak mutex consumption), implies around 25 mutexes consum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ing merely 490 little documents to an index will result in mutex (OpenC: pthread_mutex_t) allocation fail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ractically usel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ltithread Clucen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vision 792 introduced new config flag for CLucene: CPIX_ASYNC_M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at enables only the necessary mutexes (identified by painstaking grepping and searching through clucene sourc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e document added requires only one mutex ever at mo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is still possible that not everything was properly protected by mutexes ... (not likely, but stil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Multithreading in CPi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lmost all non-plugin-type of features are implemented by / through 3 class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, IdxDb, MultiIdxD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rthogonal” features added piecemeal (not architected in advanc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-index search, volume def/undef, delta-commit-logic, MT required for async AP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Grew amorphically, never had time f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writing exhaustive tes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rowing out obsolete, simplification or refactor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hree threa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YNC operations: master (public API)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 open/release, doc/field creation, etc .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SYNC search operations: search slave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, document fetch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st of ASYNC operations: indexing slave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 / delete / upd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lush, housekeep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stances that can be accessed concurrently must be protec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tex own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::RotLogg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sponsible for rotating log files std out / err are redirected t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ingleton inst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::AsyncJo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ase class for all asynchronous job clas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ynchronizing cancelled_/calledback_ member flags to control cancellation and lifetime proper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tex owners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t::JobQueue (not really Cpix, but it’s ther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s producer-consumer patter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Uses mutex and conditional vari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rom libcpixtools.li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ieldFilterPoo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ield filter instances are in a pool to reduce ctor/dtor cyc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ingleton inst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re) mutex own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dxDbMg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wner of all IdxDb and MultiIdxDb instan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ost general features are implemented here (volume def/undef, housekeeping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ingleton inst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anages a physical index directo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own member variables as well as the physical directory accesses must be sync-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API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rovides both sync and asyn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ync API is for console apps and for tes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sync API (cpix_async.h) is for engine u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ort of Object Orienting in 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_Foo_doFoo(pFoo, ...) instead of C++ style </a:t>
            </a:r>
            <a:br>
              <a:rPr sz="2800"/>
            </a:b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Foo-&gt;doFoo(..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l function that can fail communicate errors through either the ”this” pointer (”member functions”) or via a pointer to cpix_Result (”free function”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re) mutex owners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VersionedReader (idxdb.h / cpp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ubobject/”part” of IdxDb, high level of coupl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it’s own members can be concurrently acces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ulti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sponsible for searches involving multiple physical index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it’s own members can be concurrently acce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Non-recursive vs recursive mtx-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t::Mutex cla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fault constructor: non-recursive mute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verloaded constructor can be used for recursive mutex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cursive mutexes are used only where necess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y usually signify ”messy parts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Reader, IdxDbMgr, MultiIdxD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Volume defin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defineVolum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suggest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Mgr (ge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Volume undefin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undefineVolum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removeHnd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pening (single physical)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ge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pening a searcher (with possibly multiple physical indexes involved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ge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reating (single physical)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cre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clos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withing VersionedReader::clos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cre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forceClos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leasing index hand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close, 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close, IdxDbDelta::CommitToDisk_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leasing searcher hand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releaseHndls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Mg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... (anything that went on for releasing index hand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lush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flush, IdxDbDelta::RecoverHand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flush, IdxDbDelta::CommitToDisk_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VersionedReader::reopen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dding docu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add2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(All that went on for flush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leting docu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VersionedReader::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Update docu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Union of add and delete ca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ing on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erms query on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etching document on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getVersio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getVersio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ing on 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search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search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4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erms query on 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4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rror report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3"/>
          <p:cNvSpPr/>
          <p:nvPr/>
        </p:nvSpPr>
        <p:spPr>
          <a:xfrm>
            <a:off x="304920" y="1295280"/>
            <a:ext cx="8534160" cy="541044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wchar_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msg[256]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Result resul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Analyzer * analyzer = ...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QueryParser * queryParser =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QueryParser_cre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&amp;resul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”body”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nalyzer_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Succeeded(&amp;result)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Query * query =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QueryParser_pars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queryParser, L”hello”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Succeeded(queryParser)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use qu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Error_report(queryParser-&gt;err_, msg,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msg)/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wchar_t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use msg to report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Error_report(result.err_, msg,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msg)/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wchar_t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use msg to report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5"/>
          <p:cNvSpPr/>
          <p:nvPr/>
        </p:nvSpPr>
        <p:spPr>
          <a:xfrm>
            <a:off x="5045040" y="1219320"/>
            <a:ext cx="284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static ”/ creation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Curved Connector 7"/>
          <p:cNvCxnSpPr>
            <a:stCxn id="53" idx="2"/>
          </p:cNvCxnSpPr>
          <p:nvPr/>
        </p:nvCxnSpPr>
        <p:spPr>
          <a:xfrm rot="5400000">
            <a:off x="5894640" y="1408680"/>
            <a:ext cx="392760" cy="75312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  <p:cxnSp>
        <p:nvCxnSpPr>
          <p:cNvPr id="55" name="Curved Connector 7"/>
          <p:cNvCxnSpPr>
            <a:stCxn id="53" idx="2"/>
          </p:cNvCxnSpPr>
          <p:nvPr/>
        </p:nvCxnSpPr>
        <p:spPr>
          <a:xfrm rot="5400000">
            <a:off x="4408920" y="608760"/>
            <a:ext cx="1078200" cy="303912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  <p:sp>
        <p:nvSpPr>
          <p:cNvPr id="56" name="TextBox 14"/>
          <p:cNvSpPr/>
          <p:nvPr/>
        </p:nvSpPr>
        <p:spPr>
          <a:xfrm>
            <a:off x="6413400" y="4038480"/>
            <a:ext cx="214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member”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" name="Curved Connector 7"/>
          <p:cNvCxnSpPr>
            <a:stCxn id="56" idx="0"/>
          </p:cNvCxnSpPr>
          <p:nvPr/>
        </p:nvCxnSpPr>
        <p:spPr>
          <a:xfrm flipV="1" rot="16200000">
            <a:off x="6638400" y="3190320"/>
            <a:ext cx="762480" cy="93420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  <p:cxnSp>
        <p:nvCxnSpPr>
          <p:cNvPr id="58" name="Curved Connector 7"/>
          <p:cNvCxnSpPr>
            <a:stCxn id="56" idx="0"/>
          </p:cNvCxnSpPr>
          <p:nvPr/>
        </p:nvCxnSpPr>
        <p:spPr>
          <a:xfrm flipV="1" rot="16200000">
            <a:off x="5609880" y="2161440"/>
            <a:ext cx="457920" cy="329616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etching document on search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getVersion/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getVersion/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ousekeep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happens for index flus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happens for index release (IdxDbMgr itself not being locked in the first plac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bgdum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dbgDumpSt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dbgDumpSt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dbgDumpSt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dbgDumpSt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4604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hutdow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can go on during releasing an index or a 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Delta Commit Logi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hat is ”delta”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ny modifications not yet committed to the dis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le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itions (aka ”insert buffer”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se are in memo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an be lost – need for regular flush (performed by housekeeping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Old Machinery (obsolete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Before a search, it committed the delta, long waiting because of costly file i/o + clucene merg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its were always up to da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were inherently slow becau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lucene merged index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Lots of file i/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index directory” </a:t>
            </a:r>
            <a:r>
              <a:rPr b="1" lang="fi-FI" sz="3200" spc="-1" strike="noStrike">
                <a:solidFill>
                  <a:srgbClr val="ff0000"/>
                </a:solidFill>
                <a:latin typeface="Calibri"/>
              </a:rPr>
              <a:t>=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”clucene index directory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existed until r152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New Machine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happen on current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do not care about del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lta is committed to dis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y explicit call to flush(), or close(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y housekeeping (regular operation in s60 serv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icitly, during add() operation, if the insert buffer grows beyond a preset lim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index directory” </a:t>
            </a:r>
            <a:r>
              <a:rPr b="1" lang="fi-FI" sz="3200" spc="-1" strike="noStrike">
                <a:solidFill>
                  <a:srgbClr val="ff0000"/>
                </a:solidFill>
                <a:latin typeface="Calibri"/>
              </a:rPr>
              <a:t>≠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”clucene index directory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alled IdxDb2 until r1529, after that, 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operations and threa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r slave (worker)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ing and fetching docu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ing slave (worker)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ing, deleting, updating, flushing, housekeep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is not a search but can result in file i/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perations with possible file i/o on master thread (client API) a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/searcher opening and releas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Delta Commit Logi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f. Idxdbdelta.h / cpp: class IdxDbDel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ested by cpixunittests suite ”whitebox/delta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erforms steps using the disk as intermediate stor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 crash / phone shutdown as much state is left on disk as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 restart, as much is recovered as conceptually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Delta Commit Logic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Loading an index for search may need to continue with merging the intermediate stuff found the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refore loading an index and committing delta needs to be prepared for taking the very sa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f MergeOnDisk_() in idxdbdelta.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erforms (almost) all of the delta-commit ste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orkhorse for both loading and commit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API sty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(lmost a)ll public cpix_XXX structs have very similar layout: struct { void * ptr_; cpix_Error * err_; }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 macros and C++ templates can treat them the sa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5"/>
          <p:cNvSpPr/>
          <p:nvPr/>
        </p:nvSpPr>
        <p:spPr>
          <a:xfrm>
            <a:off x="3505320" y="4114800"/>
            <a:ext cx="2057400" cy="2438280"/>
          </a:xfrm>
          <a:prstGeom prst="rect">
            <a:avLst/>
          </a:prstGeom>
          <a:solidFill>
            <a:srgbClr val="c6d9f1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API 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7"/>
          <p:cNvSpPr/>
          <p:nvPr/>
        </p:nvSpPr>
        <p:spPr>
          <a:xfrm>
            <a:off x="5867280" y="4114800"/>
            <a:ext cx="2057400" cy="2438280"/>
          </a:xfrm>
          <a:prstGeom prst="rect">
            <a:avLst/>
          </a:prstGeom>
          <a:solidFill>
            <a:srgbClr val="e6e0ec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Native:</a:t>
            </a:r>
            <a:br>
              <a:rPr sz="1800"/>
            </a:b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or CLuce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8"/>
          <p:cNvSpPr/>
          <p:nvPr/>
        </p:nvSpPr>
        <p:spPr>
          <a:xfrm>
            <a:off x="1219320" y="4114800"/>
            <a:ext cx="2057400" cy="2438280"/>
          </a:xfrm>
          <a:prstGeom prst="rect">
            <a:avLst/>
          </a:prstGeom>
          <a:solidFill>
            <a:srgbClr val="ebf1de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9"/>
          <p:cNvSpPr/>
          <p:nvPr/>
        </p:nvSpPr>
        <p:spPr>
          <a:xfrm>
            <a:off x="3886200" y="4724280"/>
            <a:ext cx="1295280" cy="914400"/>
          </a:xfrm>
          <a:prstGeom prst="rect">
            <a:avLst/>
          </a:prstGeom>
          <a:solidFill>
            <a:srgbClr val="1f49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 u="sng">
                <a:solidFill>
                  <a:srgbClr val="ffffff"/>
                </a:solidFill>
                <a:uFillTx/>
                <a:latin typeface="Calibri"/>
              </a:rPr>
              <a:t>_:cpix_Foo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ptr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err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11"/>
          <p:cNvSpPr/>
          <p:nvPr/>
        </p:nvSpPr>
        <p:spPr>
          <a:xfrm>
            <a:off x="1371600" y="4724280"/>
            <a:ext cx="1676520" cy="45720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cpix_Foo * pFo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12"/>
          <p:cNvSpPr/>
          <p:nvPr/>
        </p:nvSpPr>
        <p:spPr>
          <a:xfrm>
            <a:off x="6095880" y="4724280"/>
            <a:ext cx="1600200" cy="91440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 u="sng">
                <a:solidFill>
                  <a:srgbClr val="ffffff"/>
                </a:solidFill>
                <a:uFillTx/>
                <a:latin typeface="Calibri"/>
              </a:rPr>
              <a:t>_:lucene::Foo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. .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" name="Curved Connector 14"/>
          <p:cNvCxnSpPr>
            <a:stCxn id="65" idx="3"/>
          </p:cNvCxnSpPr>
          <p:nvPr/>
        </p:nvCxnSpPr>
        <p:spPr>
          <a:xfrm flipV="1">
            <a:off x="3048120" y="4723560"/>
            <a:ext cx="838800" cy="229320"/>
          </a:xfrm>
          <a:prstGeom prst="curvedConnector5">
            <a:avLst>
              <a:gd name="adj1" fmla="val 49978"/>
              <a:gd name="adj2" fmla="val 50000"/>
              <a:gd name="adj3" fmla="val 49978"/>
            </a:avLst>
          </a:prstGeom>
          <a:ln w="255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8" name="Curved Connector 16"/>
          <p:cNvCxnSpPr/>
          <p:nvPr/>
        </p:nvCxnSpPr>
        <p:spPr>
          <a:xfrm flipV="1">
            <a:off x="4419720" y="4723920"/>
            <a:ext cx="1676880" cy="457920"/>
          </a:xfrm>
          <a:prstGeom prst="curvedConnector5">
            <a:avLst>
              <a:gd name="adj1" fmla="val 49989"/>
              <a:gd name="adj2" fmla="val 49960"/>
              <a:gd name="adj3" fmla="val 49989"/>
            </a:avLst>
          </a:prstGeom>
          <a:ln w="255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A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 directory: root/file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urrent clucene (sub)directory: root/file/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Reader instance uses clucene idx dir 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1 – committing dele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lucene does something in dir root/file/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arker file root/file/_dels.mrk is cre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t this point we know, even after restart, that delta had dele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2 – committing insert buffer (RAM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to clucene dir root/file/_ibuftmp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3 – committed insert buffer (don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_ibuftmp/ renamed to _ibufdone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_ibufdone is a valid clucene index dir, containing our insert buff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t this point we have the both deletions and the insert buffer, that is the whole delta is on disk: ALL information is recover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4 – merging current and del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to clucene dir root/file/_mergetmp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5 – merged (don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arker file _0newer.mrk cre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_mergetmp/ renamed to _0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r>
              <a:rPr b="1" lang="fi-FI" sz="2800" spc="-1" strike="noStrike">
                <a:solidFill>
                  <a:srgbClr val="00b050"/>
                </a:solidFill>
                <a:latin typeface="Calibri"/>
              </a:rPr>
              <a:t> 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t this point, we wouldn’t even have to re-merge, as the merged version is there (_0/) and we have the marker file telling which one is the newer, _0/ or 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6 – switching from old to n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IndexReader to new (_0/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wapping the current/old IndexReader instance (still using _1/) with the new one (using _0/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stroying old read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 swap operation is ”conceptually” the only point where the indexing slave thread has to block (via mutexes) the searcher slave thread, but pointer swapping operations are safe and fa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 practice, it’s more complex (directories have to be protected too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7 – cleaning up cpix directo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l those marker files (_dels.mrk, _0newer.mrk) are dele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l those temporary and old clucene directories (_1/, _ibufdone) are dele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O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e started with a reader using root/file/_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e have now a reader using root/file/_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ext time we switch from _0/ to _1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OTE to STEP 2 – STEP 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re the commont part sequence required for both loading and commit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ed by MergeOnDisk_(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OTE to STEP 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f IdxDb.cpp, VersionedReader::reopen(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OTE to STEP 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f we are switching from _0/ to _1/, then the marker file is _1newer.mr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Hits lifetime, refe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IndexReaders vs h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 API fea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ocuments returned by hits are owned by the reader they originate fro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refore destroying the reader will destroy those docu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Enumerating hit documents and updating/closing an index is problemati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rying to browse a document that was already deleted would crash the proc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ypes of query 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ome query types are implemented by Cpix (e.g. Terms query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refore term query hits are owned by Cpix layer, and are thus independent of clucene reader instance lifeti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rue/vanilla queries are implemented by Cluce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se are the problematic ca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rapping h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456840" y="160020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itDocumentLi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hen hit docs are owned by Cpi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oes not depend on reader once a search is ma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Hi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hen hit docs are owned by Cluce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pends on read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Rectangle 3"/>
          <p:cNvSpPr/>
          <p:nvPr/>
        </p:nvSpPr>
        <p:spPr>
          <a:xfrm>
            <a:off x="5105520" y="4724280"/>
            <a:ext cx="1752480" cy="38124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luceneH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4"/>
          <p:cNvSpPr/>
          <p:nvPr/>
        </p:nvSpPr>
        <p:spPr>
          <a:xfrm>
            <a:off x="6095880" y="3886200"/>
            <a:ext cx="1752840" cy="3808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Hits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5"/>
          <p:cNvSpPr/>
          <p:nvPr/>
        </p:nvSpPr>
        <p:spPr>
          <a:xfrm>
            <a:off x="6095880" y="3048120"/>
            <a:ext cx="1752840" cy="3808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IH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6"/>
          <p:cNvSpPr/>
          <p:nvPr/>
        </p:nvSpPr>
        <p:spPr>
          <a:xfrm>
            <a:off x="7010280" y="4724280"/>
            <a:ext cx="1752840" cy="38124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HitDocument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Isosceles Triangle 7"/>
          <p:cNvSpPr/>
          <p:nvPr/>
        </p:nvSpPr>
        <p:spPr>
          <a:xfrm>
            <a:off x="6858000" y="3429000"/>
            <a:ext cx="228600" cy="15228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Isosceles Triangle 16"/>
          <p:cNvSpPr/>
          <p:nvPr/>
        </p:nvSpPr>
        <p:spPr>
          <a:xfrm>
            <a:off x="6858000" y="4267080"/>
            <a:ext cx="228600" cy="15264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9" name="Elbow Connector 17"/>
          <p:cNvCxnSpPr>
            <a:stCxn id="318" idx="3"/>
            <a:endCxn id="313" idx="0"/>
          </p:cNvCxnSpPr>
          <p:nvPr/>
        </p:nvCxnSpPr>
        <p:spPr>
          <a:xfrm rot="5400000">
            <a:off x="6324120" y="4076640"/>
            <a:ext cx="305280" cy="991440"/>
          </a:xfrm>
          <a:prstGeom prst="bentConnector3">
            <a:avLst>
              <a:gd name="adj1" fmla="val 49940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320" name="Elbow Connector 19"/>
          <p:cNvCxnSpPr>
            <a:stCxn id="318" idx="3"/>
            <a:endCxn id="316" idx="0"/>
          </p:cNvCxnSpPr>
          <p:nvPr/>
        </p:nvCxnSpPr>
        <p:spPr>
          <a:xfrm flipH="1" rot="16200000">
            <a:off x="7277400" y="4114440"/>
            <a:ext cx="305280" cy="915120"/>
          </a:xfrm>
          <a:prstGeom prst="bentConnector3">
            <a:avLst>
              <a:gd name="adj1" fmla="val 49940"/>
            </a:avLst>
          </a:prstGeom>
          <a:ln w="9360">
            <a:solidFill>
              <a:srgbClr val="4a7ebb"/>
            </a:solidFill>
            <a:miter/>
          </a:ln>
        </p:spPr>
      </p:cxnSp>
      <p:sp>
        <p:nvSpPr>
          <p:cNvPr id="321" name="Rectangle 22"/>
          <p:cNvSpPr/>
          <p:nvPr/>
        </p:nvSpPr>
        <p:spPr>
          <a:xfrm>
            <a:off x="6095880" y="1905120"/>
            <a:ext cx="1752840" cy="3808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_H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Diamond 23"/>
          <p:cNvSpPr/>
          <p:nvPr/>
        </p:nvSpPr>
        <p:spPr>
          <a:xfrm>
            <a:off x="6858000" y="2286000"/>
            <a:ext cx="228600" cy="228600"/>
          </a:xfrm>
          <a:prstGeom prst="diamond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Straight Connector 25"/>
          <p:cNvSpPr/>
          <p:nvPr/>
        </p:nvSpPr>
        <p:spPr>
          <a:xfrm flipH="1">
            <a:off x="6970320" y="2516040"/>
            <a:ext cx="3240" cy="5335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Straight Connector 27"/>
          <p:cNvSpPr/>
          <p:nvPr/>
        </p:nvSpPr>
        <p:spPr>
          <a:xfrm flipH="1">
            <a:off x="6970320" y="3583080"/>
            <a:ext cx="3240" cy="3045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rapper and native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Box 3"/>
          <p:cNvSpPr/>
          <p:nvPr/>
        </p:nvSpPr>
        <p:spPr>
          <a:xfrm>
            <a:off x="3352680" y="1676520"/>
            <a:ext cx="2286000" cy="4952880"/>
          </a:xfrm>
          <a:prstGeom prst="rect">
            <a:avLst/>
          </a:prstGeom>
          <a:solidFill>
            <a:srgbClr val="c6d9f1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internal 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4"/>
          <p:cNvSpPr/>
          <p:nvPr/>
        </p:nvSpPr>
        <p:spPr>
          <a:xfrm>
            <a:off x="6019920" y="1676520"/>
            <a:ext cx="2286000" cy="4952880"/>
          </a:xfrm>
          <a:prstGeom prst="rect">
            <a:avLst/>
          </a:prstGeom>
          <a:solidFill>
            <a:srgbClr val="e6e0ec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Lucene libr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5"/>
          <p:cNvSpPr/>
          <p:nvPr/>
        </p:nvSpPr>
        <p:spPr>
          <a:xfrm>
            <a:off x="914400" y="1676520"/>
            <a:ext cx="2286000" cy="4952880"/>
          </a:xfrm>
          <a:prstGeom prst="rect">
            <a:avLst/>
          </a:prstGeom>
          <a:solidFill>
            <a:srgbClr val="ebf1de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wrapp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6"/>
          <p:cNvSpPr/>
          <p:nvPr/>
        </p:nvSpPr>
        <p:spPr>
          <a:xfrm>
            <a:off x="914400" y="1219320"/>
            <a:ext cx="2286000" cy="380880"/>
          </a:xfrm>
          <a:prstGeom prst="rect">
            <a:avLst/>
          </a:prstGeom>
          <a:solidFill>
            <a:srgbClr val="fac090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WRAPP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7"/>
          <p:cNvSpPr/>
          <p:nvPr/>
        </p:nvSpPr>
        <p:spPr>
          <a:xfrm>
            <a:off x="3352680" y="1219320"/>
            <a:ext cx="4953240" cy="380880"/>
          </a:xfrm>
          <a:prstGeom prst="rect">
            <a:avLst/>
          </a:prstGeom>
          <a:solidFill>
            <a:srgbClr val="fac090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NATIVE” 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8"/>
          <p:cNvSpPr/>
          <p:nvPr/>
        </p:nvSpPr>
        <p:spPr>
          <a:xfrm>
            <a:off x="990720" y="1752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Analy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10"/>
          <p:cNvSpPr/>
          <p:nvPr/>
        </p:nvSpPr>
        <p:spPr>
          <a:xfrm>
            <a:off x="990720" y="251460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Qu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11"/>
          <p:cNvSpPr/>
          <p:nvPr/>
        </p:nvSpPr>
        <p:spPr>
          <a:xfrm>
            <a:off x="990720" y="2895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QueryPar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12"/>
          <p:cNvSpPr/>
          <p:nvPr/>
        </p:nvSpPr>
        <p:spPr>
          <a:xfrm>
            <a:off x="990720" y="3276720"/>
            <a:ext cx="2133360" cy="30456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H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14"/>
          <p:cNvSpPr/>
          <p:nvPr/>
        </p:nvSpPr>
        <p:spPr>
          <a:xfrm>
            <a:off x="990720" y="4038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15"/>
          <p:cNvSpPr/>
          <p:nvPr/>
        </p:nvSpPr>
        <p:spPr>
          <a:xfrm>
            <a:off x="990720" y="4419720"/>
            <a:ext cx="2133360" cy="30456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DocFieldEn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16"/>
          <p:cNvSpPr/>
          <p:nvPr/>
        </p:nvSpPr>
        <p:spPr>
          <a:xfrm>
            <a:off x="990720" y="480060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Docu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17"/>
          <p:cNvSpPr/>
          <p:nvPr/>
        </p:nvSpPr>
        <p:spPr>
          <a:xfrm>
            <a:off x="990720" y="5181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Te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8"/>
          <p:cNvSpPr/>
          <p:nvPr/>
        </p:nvSpPr>
        <p:spPr>
          <a:xfrm>
            <a:off x="6095880" y="1752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Tokeni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19"/>
          <p:cNvSpPr/>
          <p:nvPr/>
        </p:nvSpPr>
        <p:spPr>
          <a:xfrm>
            <a:off x="3429000" y="2133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SnowballAnaly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20"/>
          <p:cNvSpPr/>
          <p:nvPr/>
        </p:nvSpPr>
        <p:spPr>
          <a:xfrm>
            <a:off x="6095880" y="251460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Qu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21"/>
          <p:cNvSpPr/>
          <p:nvPr/>
        </p:nvSpPr>
        <p:spPr>
          <a:xfrm>
            <a:off x="6095880" y="2895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QueryPar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22"/>
          <p:cNvSpPr/>
          <p:nvPr/>
        </p:nvSpPr>
        <p:spPr>
          <a:xfrm>
            <a:off x="6095880" y="3276720"/>
            <a:ext cx="213372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H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23"/>
          <p:cNvSpPr/>
          <p:nvPr/>
        </p:nvSpPr>
        <p:spPr>
          <a:xfrm>
            <a:off x="6095880" y="4038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24"/>
          <p:cNvSpPr/>
          <p:nvPr/>
        </p:nvSpPr>
        <p:spPr>
          <a:xfrm>
            <a:off x="6095880" y="4419720"/>
            <a:ext cx="213372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FieldEnum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25"/>
          <p:cNvSpPr/>
          <p:nvPr/>
        </p:nvSpPr>
        <p:spPr>
          <a:xfrm>
            <a:off x="6095880" y="480060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26"/>
          <p:cNvSpPr/>
          <p:nvPr/>
        </p:nvSpPr>
        <p:spPr>
          <a:xfrm>
            <a:off x="6095880" y="5181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Te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27"/>
          <p:cNvSpPr/>
          <p:nvPr/>
        </p:nvSpPr>
        <p:spPr>
          <a:xfrm>
            <a:off x="990720" y="5562720"/>
            <a:ext cx="2133360" cy="30456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Idx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28"/>
          <p:cNvSpPr/>
          <p:nvPr/>
        </p:nvSpPr>
        <p:spPr>
          <a:xfrm>
            <a:off x="3429000" y="5562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dx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29"/>
          <p:cNvSpPr/>
          <p:nvPr/>
        </p:nvSpPr>
        <p:spPr>
          <a:xfrm>
            <a:off x="6095880" y="5562720"/>
            <a:ext cx="160020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ndexRea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30"/>
          <p:cNvSpPr/>
          <p:nvPr/>
        </p:nvSpPr>
        <p:spPr>
          <a:xfrm>
            <a:off x="6324480" y="5791320"/>
            <a:ext cx="160020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ndexWri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31"/>
          <p:cNvSpPr/>
          <p:nvPr/>
        </p:nvSpPr>
        <p:spPr>
          <a:xfrm>
            <a:off x="6629400" y="6019920"/>
            <a:ext cx="160020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ndexSearc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Elbow Connector 34"/>
          <p:cNvCxnSpPr>
            <a:stCxn id="75" idx="3"/>
          </p:cNvCxnSpPr>
          <p:nvPr/>
        </p:nvCxnSpPr>
        <p:spPr>
          <a:xfrm>
            <a:off x="3123720" y="190512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8" name="Elbow Connector 36"/>
          <p:cNvCxnSpPr>
            <a:endCxn id="84" idx="1"/>
          </p:cNvCxnSpPr>
          <p:nvPr/>
        </p:nvCxnSpPr>
        <p:spPr>
          <a:xfrm rot="5400000">
            <a:off x="3314520" y="2095200"/>
            <a:ext cx="305640" cy="76680"/>
          </a:xfrm>
          <a:prstGeom prst="bentConnector4">
            <a:avLst>
              <a:gd name="adj1" fmla="val 25000"/>
              <a:gd name="adj2" fmla="val 401415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9" name="Elbow Connector 39"/>
          <p:cNvCxnSpPr>
            <a:stCxn id="76" idx="3"/>
            <a:endCxn id="100" idx="1"/>
          </p:cNvCxnSpPr>
          <p:nvPr/>
        </p:nvCxnSpPr>
        <p:spPr>
          <a:xfrm>
            <a:off x="3123720" y="2666520"/>
            <a:ext cx="30564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1" name="Elbow Connector 42"/>
          <p:cNvCxnSpPr>
            <a:stCxn id="77" idx="3"/>
            <a:endCxn id="86" idx="1"/>
          </p:cNvCxnSpPr>
          <p:nvPr/>
        </p:nvCxnSpPr>
        <p:spPr>
          <a:xfrm>
            <a:off x="3123720" y="3048120"/>
            <a:ext cx="297252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lg" type="stealth" w="lg"/>
          </a:ln>
        </p:spPr>
      </p:cxnSp>
      <p:cxnSp>
        <p:nvCxnSpPr>
          <p:cNvPr id="102" name="Elbow Connector 45"/>
          <p:cNvCxnSpPr>
            <a:stCxn id="78" idx="3"/>
            <a:endCxn id="103" idx="1"/>
          </p:cNvCxnSpPr>
          <p:nvPr/>
        </p:nvCxnSpPr>
        <p:spPr>
          <a:xfrm>
            <a:off x="3123720" y="342900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lg" type="stealth" w="lg"/>
          </a:ln>
        </p:spPr>
      </p:cxnSp>
      <p:cxnSp>
        <p:nvCxnSpPr>
          <p:cNvPr id="104" name="Elbow Connector 48"/>
          <p:cNvCxnSpPr>
            <a:stCxn id="79" idx="3"/>
            <a:endCxn id="105" idx="1"/>
          </p:cNvCxnSpPr>
          <p:nvPr/>
        </p:nvCxnSpPr>
        <p:spPr>
          <a:xfrm>
            <a:off x="3123720" y="419112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lg" type="stealth" w="lg"/>
          </a:ln>
        </p:spPr>
      </p:cxnSp>
      <p:cxnSp>
        <p:nvCxnSpPr>
          <p:cNvPr id="106" name="Elbow Connector 51"/>
          <p:cNvCxnSpPr>
            <a:stCxn id="80" idx="3"/>
            <a:endCxn id="107" idx="1"/>
          </p:cNvCxnSpPr>
          <p:nvPr/>
        </p:nvCxnSpPr>
        <p:spPr>
          <a:xfrm>
            <a:off x="3123720" y="457200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lg" type="stealth" w="lg"/>
          </a:ln>
        </p:spPr>
      </p:cxnSp>
      <p:cxnSp>
        <p:nvCxnSpPr>
          <p:cNvPr id="108" name="Elbow Connector 54"/>
          <p:cNvCxnSpPr>
            <a:stCxn id="81" idx="3"/>
            <a:endCxn id="109" idx="1"/>
          </p:cNvCxnSpPr>
          <p:nvPr/>
        </p:nvCxnSpPr>
        <p:spPr>
          <a:xfrm>
            <a:off x="3123720" y="4952520"/>
            <a:ext cx="30564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lg" type="stealth" w="lg"/>
          </a:ln>
        </p:spPr>
      </p:cxnSp>
      <p:cxnSp>
        <p:nvCxnSpPr>
          <p:cNvPr id="110" name="Elbow Connector 57"/>
          <p:cNvCxnSpPr>
            <a:stCxn id="82" idx="3"/>
            <a:endCxn id="91" idx="1"/>
          </p:cNvCxnSpPr>
          <p:nvPr/>
        </p:nvCxnSpPr>
        <p:spPr>
          <a:xfrm>
            <a:off x="3123720" y="5334120"/>
            <a:ext cx="297252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lg" type="stealth" w="lg"/>
          </a:ln>
        </p:spPr>
      </p:cxnSp>
      <p:cxnSp>
        <p:nvCxnSpPr>
          <p:cNvPr id="111" name="Elbow Connector 60"/>
          <p:cNvCxnSpPr>
            <a:stCxn id="92" idx="3"/>
            <a:endCxn id="93" idx="1"/>
          </p:cNvCxnSpPr>
          <p:nvPr/>
        </p:nvCxnSpPr>
        <p:spPr>
          <a:xfrm>
            <a:off x="3123720" y="571500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lg" type="stealth" w="lg"/>
          </a:ln>
        </p:spPr>
      </p:cxnSp>
      <p:cxnSp>
        <p:nvCxnSpPr>
          <p:cNvPr id="112" name="Elbow Connector 63"/>
          <p:cNvCxnSpPr>
            <a:stCxn id="93" idx="3"/>
            <a:endCxn id="94" idx="1"/>
          </p:cNvCxnSpPr>
          <p:nvPr/>
        </p:nvCxnSpPr>
        <p:spPr>
          <a:xfrm>
            <a:off x="5562360" y="571500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lg" type="stealth" w="lg"/>
          </a:ln>
        </p:spPr>
      </p:cxnSp>
      <p:sp>
        <p:nvSpPr>
          <p:cNvPr id="103" name="TextBox 40"/>
          <p:cNvSpPr/>
          <p:nvPr/>
        </p:nvSpPr>
        <p:spPr>
          <a:xfrm>
            <a:off x="3429000" y="3276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LuceneH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43"/>
          <p:cNvSpPr/>
          <p:nvPr/>
        </p:nvSpPr>
        <p:spPr>
          <a:xfrm>
            <a:off x="3429000" y="3657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HitDocum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4" name="Elbow Connector 44"/>
          <p:cNvCxnSpPr>
            <a:stCxn id="78" idx="3"/>
            <a:endCxn id="113" idx="1"/>
          </p:cNvCxnSpPr>
          <p:nvPr/>
        </p:nvCxnSpPr>
        <p:spPr>
          <a:xfrm>
            <a:off x="3123720" y="3429000"/>
            <a:ext cx="30564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lg" type="stealth" w="lg"/>
          </a:ln>
        </p:spPr>
      </p:cxnSp>
      <p:cxnSp>
        <p:nvCxnSpPr>
          <p:cNvPr id="115" name="Elbow Connector 49"/>
          <p:cNvCxnSpPr>
            <a:stCxn id="103" idx="3"/>
            <a:endCxn id="87" idx="1"/>
          </p:cNvCxnSpPr>
          <p:nvPr/>
        </p:nvCxnSpPr>
        <p:spPr>
          <a:xfrm>
            <a:off x="5562360" y="342900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lg" type="stealth" w="lg"/>
          </a:ln>
        </p:spPr>
      </p:cxnSp>
      <p:sp>
        <p:nvSpPr>
          <p:cNvPr id="116" name="TextBox 46"/>
          <p:cNvSpPr/>
          <p:nvPr/>
        </p:nvSpPr>
        <p:spPr>
          <a:xfrm>
            <a:off x="990720" y="594360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IdxSearc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47"/>
          <p:cNvSpPr/>
          <p:nvPr/>
        </p:nvSpPr>
        <p:spPr>
          <a:xfrm>
            <a:off x="3429000" y="5943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MultiIdx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Elbow Connector 50"/>
          <p:cNvCxnSpPr>
            <a:stCxn id="116" idx="3"/>
            <a:endCxn id="117" idx="1"/>
          </p:cNvCxnSpPr>
          <p:nvPr/>
        </p:nvCxnSpPr>
        <p:spPr>
          <a:xfrm>
            <a:off x="3123720" y="6095520"/>
            <a:ext cx="30564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lg" type="stealth" w="lg"/>
          </a:ln>
        </p:spPr>
      </p:cxnSp>
      <p:cxnSp>
        <p:nvCxnSpPr>
          <p:cNvPr id="119" name="Elbow Connector 55"/>
          <p:cNvCxnSpPr>
            <a:stCxn id="116" idx="3"/>
            <a:endCxn id="93" idx="1"/>
          </p:cNvCxnSpPr>
          <p:nvPr/>
        </p:nvCxnSpPr>
        <p:spPr>
          <a:xfrm flipV="1">
            <a:off x="3123720" y="5714640"/>
            <a:ext cx="30564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lg" type="stealth" w="lg"/>
          </a:ln>
        </p:spPr>
      </p:cxnSp>
      <p:cxnSp>
        <p:nvCxnSpPr>
          <p:cNvPr id="120" name="Elbow Connector 61"/>
          <p:cNvCxnSpPr>
            <a:stCxn id="117" idx="0"/>
            <a:endCxn id="93" idx="2"/>
          </p:cNvCxnSpPr>
          <p:nvPr/>
        </p:nvCxnSpPr>
        <p:spPr>
          <a:xfrm flipH="1" flipV="1" rot="5400000">
            <a:off x="4456800" y="5904720"/>
            <a:ext cx="76680" cy="39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lg" type="stealth" w="lg"/>
          </a:ln>
        </p:spPr>
      </p:cxnSp>
      <p:sp>
        <p:nvSpPr>
          <p:cNvPr id="121" name="TextBox 53"/>
          <p:cNvSpPr/>
          <p:nvPr/>
        </p:nvSpPr>
        <p:spPr>
          <a:xfrm>
            <a:off x="3429000" y="175248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ustomAnaly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2" name="Elbow Connector 36"/>
          <p:cNvCxnSpPr>
            <a:stCxn id="121" idx="3"/>
            <a:endCxn id="83" idx="1"/>
          </p:cNvCxnSpPr>
          <p:nvPr/>
        </p:nvCxnSpPr>
        <p:spPr>
          <a:xfrm>
            <a:off x="5562360" y="190512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lg" type="stealth" w="lg"/>
          </a:ln>
        </p:spPr>
      </p:cxnSp>
      <p:sp>
        <p:nvSpPr>
          <p:cNvPr id="123" name="TextBox 66"/>
          <p:cNvSpPr/>
          <p:nvPr/>
        </p:nvSpPr>
        <p:spPr>
          <a:xfrm>
            <a:off x="6095880" y="2133720"/>
            <a:ext cx="213372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Fil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Elbow Connector 36"/>
          <p:cNvCxnSpPr>
            <a:endCxn id="123" idx="1"/>
          </p:cNvCxnSpPr>
          <p:nvPr/>
        </p:nvCxnSpPr>
        <p:spPr>
          <a:xfrm>
            <a:off x="5562360" y="1905120"/>
            <a:ext cx="53388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lg" type="stealth" w="lg"/>
          </a:ln>
        </p:spPr>
      </p:cxnSp>
      <p:sp>
        <p:nvSpPr>
          <p:cNvPr id="100" name="TextBox 58"/>
          <p:cNvSpPr/>
          <p:nvPr/>
        </p:nvSpPr>
        <p:spPr>
          <a:xfrm>
            <a:off x="3429000" y="2514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Qry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5" name="Elbow Connector 64"/>
          <p:cNvCxnSpPr>
            <a:stCxn id="100" idx="3"/>
            <a:endCxn id="85" idx="1"/>
          </p:cNvCxnSpPr>
          <p:nvPr/>
        </p:nvCxnSpPr>
        <p:spPr>
          <a:xfrm>
            <a:off x="5562360" y="2666520"/>
            <a:ext cx="53388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lg" type="stealth" w="lg"/>
          </a:ln>
        </p:spPr>
      </p:cxnSp>
      <p:sp>
        <p:nvSpPr>
          <p:cNvPr id="105" name="TextBox 70"/>
          <p:cNvSpPr/>
          <p:nvPr/>
        </p:nvSpPr>
        <p:spPr>
          <a:xfrm>
            <a:off x="3429000" y="403848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Elbow Connector 72"/>
          <p:cNvCxnSpPr>
            <a:stCxn id="105" idx="3"/>
            <a:endCxn id="88" idx="1"/>
          </p:cNvCxnSpPr>
          <p:nvPr/>
        </p:nvCxnSpPr>
        <p:spPr>
          <a:xfrm>
            <a:off x="5562360" y="419112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lg" type="stealth" w="lg"/>
          </a:ln>
        </p:spPr>
      </p:cxnSp>
      <p:sp>
        <p:nvSpPr>
          <p:cNvPr id="107" name="TextBox 76"/>
          <p:cNvSpPr/>
          <p:nvPr/>
        </p:nvSpPr>
        <p:spPr>
          <a:xfrm>
            <a:off x="3429000" y="4419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FieldIt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7" name="Elbow Connector 77"/>
          <p:cNvCxnSpPr>
            <a:stCxn id="107" idx="3"/>
            <a:endCxn id="89" idx="1"/>
          </p:cNvCxnSpPr>
          <p:nvPr/>
        </p:nvCxnSpPr>
        <p:spPr>
          <a:xfrm>
            <a:off x="5562360" y="457200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lg" type="stealth" w="lg"/>
          </a:ln>
        </p:spPr>
      </p:cxnSp>
      <p:sp>
        <p:nvSpPr>
          <p:cNvPr id="109" name="TextBox 81"/>
          <p:cNvSpPr/>
          <p:nvPr/>
        </p:nvSpPr>
        <p:spPr>
          <a:xfrm>
            <a:off x="3429000" y="4800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Elbow Connector 82"/>
          <p:cNvCxnSpPr>
            <a:stCxn id="109" idx="3"/>
            <a:endCxn id="90" idx="1"/>
          </p:cNvCxnSpPr>
          <p:nvPr/>
        </p:nvCxnSpPr>
        <p:spPr>
          <a:xfrm>
            <a:off x="5562360" y="4952520"/>
            <a:ext cx="53388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lg" type="stealth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Refe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dxDb and MultiIdxDb have version numb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 every reader closure, they increase 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luceneHits stores the version numb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commits if the reader has changed/clo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Hits pre/re-fetches multiple do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clones them and stores them internally (pag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ublic doc enumeration first tries fetching cpix-owned clone from current p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/recommit must acquire all locks on all involved indexes (potentially very slow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Outstanding Bugs (r1532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Executing robustnesstests on pho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ems like s60 responses can be lost (???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ing with widget right after install/reboot (when harvesting is just starting up) with urel and no SIM cards inser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adlock (???) may occu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Native (Cpix) vs native (lucene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riginally, all cpix_XXX objects wrapped directly clucene objec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ith time, nearly everything got wrapped to add Cpix specific function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alyzers: syntax driven analyzer construction, queries: unified queries, hits: hits originating from clucene queries and e.g. term queries (ownership differences), Field/Document/Enum: aggregator flag, index database: proper reader/searcher/writer manag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3T14:35:06Z</dcterms:created>
  <dc:creator>admin</dc:creator>
  <dc:description/>
  <dc:language>en-US</dc:language>
  <cp:lastModifiedBy>admin</cp:lastModifiedBy>
  <dcterms:modified xsi:type="dcterms:W3CDTF">2009-12-10T15:05:59Z</dcterms:modified>
  <cp:revision>493</cp:revision>
  <dc:subject/>
  <dc:title>Slide 1</dc:title>
</cp:coreProperties>
</file>